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030-7B3B-4847-94B5-5FBC3FCA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B9D-4E25-4F3A-A926-79F9330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929-D896-4696-8098-FEDD7B60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237-EC50-41A9-82BB-5CA4DF2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A28-9D4F-4E04-8B26-4CF840B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9B8-2F99-414D-BB89-F415F9D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85D-BD8F-4CF3-863B-0DD2490B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FCF-541C-4284-BC98-0F689E3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2CD-5B84-405C-896E-1B5F151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C7E-F56A-4F66-9137-54F5DD7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306-F1F3-45E4-BA3C-43E2637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186-9914-47B1-BBA1-2C959C59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765-76D5-44A7-98F8-B457E3121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ppllp0A.wav" TargetMode="External"/><Relationship Id="rId2" Type="http://schemas.microsoft.com/office/2007/relationships/media" Target="file:///tmp/home/.config/libreoffice/4/user/gallery/appllp0A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boinng04.wav" TargetMode="External"/><Relationship Id="rId5" Type="http://schemas.microsoft.com/office/2007/relationships/media" Target="file:///tmp/home/.config/libreoffice/4/user/gallery/boinng04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BOINKK06.wav" TargetMode="External"/><Relationship Id="rId8" Type="http://schemas.microsoft.com/office/2007/relationships/media" Target="file:///tmp/home/.config/libreoffice/4/user/gallery/BOINKK06.wav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2781360"/>
            <a:ext cx="79930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o wants to be a   millionai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011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9 for 50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700280"/>
            <a:ext cx="43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etres per 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3708360" y="9079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4538"/>
                </a:moveTo>
                <a:lnTo>
                  <a:pt x="17806" y="11544"/>
                </a:lnTo>
                <a:lnTo>
                  <a:pt x="3794" y="18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358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13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86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13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4240" y="17928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10 for 100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1680" y="1197000"/>
            <a:ext cx="844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erson going 15metres in 3 seconds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pee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7280" y="766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22920" y="549360"/>
            <a:ext cx="1371600" cy="857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00720" y="838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3780000" y="692280"/>
            <a:ext cx="647640" cy="691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1920"/>
              <a:gd name="textAreaBottom" fmla="*/ 650160 h 691920"/>
            </a:gdLst>
            <a:ahLst/>
            <a:rect l="textAreaLeft" t="textAreaTop" r="textAreaRight" b="textAreaBottom"/>
            <a:pathLst>
              <a:path w="21600" h="23076">
                <a:moveTo>
                  <a:pt x="0" y="0"/>
                </a:moveTo>
                <a:lnTo>
                  <a:pt x="21600" y="0"/>
                </a:lnTo>
                <a:lnTo>
                  <a:pt x="21600" y="23076"/>
                </a:lnTo>
                <a:lnTo>
                  <a:pt x="0" y="23076"/>
                </a:lnTo>
                <a:close/>
              </a:path>
              <a:path fill="lightenLess" w="21600" h="23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76">
                <a:moveTo>
                  <a:pt x="21600" y="0"/>
                </a:moveTo>
                <a:lnTo>
                  <a:pt x="21600" y="23076"/>
                </a:lnTo>
                <a:lnTo>
                  <a:pt x="20200" y="21676"/>
                </a:lnTo>
                <a:lnTo>
                  <a:pt x="20200" y="1400"/>
                </a:lnTo>
                <a:close/>
              </a:path>
              <a:path fill="darkenLess" w="21600" h="23076">
                <a:moveTo>
                  <a:pt x="21600" y="23076"/>
                </a:moveTo>
                <a:lnTo>
                  <a:pt x="0" y="23076"/>
                </a:lnTo>
                <a:lnTo>
                  <a:pt x="1400" y="21676"/>
                </a:lnTo>
                <a:lnTo>
                  <a:pt x="20200" y="21676"/>
                </a:lnTo>
                <a:close/>
              </a:path>
              <a:path fill="lighten" w="21600" h="23076">
                <a:moveTo>
                  <a:pt x="0" y="23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76"/>
                </a:lnTo>
                <a:close/>
              </a:path>
              <a:path fill="darken" w="21600" h="23076">
                <a:moveTo>
                  <a:pt x="3794" y="4532"/>
                </a:moveTo>
                <a:lnTo>
                  <a:pt x="17806" y="11538"/>
                </a:lnTo>
                <a:lnTo>
                  <a:pt x="3794" y="185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8244000" y="692280"/>
            <a:ext cx="576000" cy="6490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39">
                <a:moveTo>
                  <a:pt x="0" y="0"/>
                </a:moveTo>
                <a:lnTo>
                  <a:pt x="21600" y="0"/>
                </a:lnTo>
                <a:lnTo>
                  <a:pt x="21600" y="24339"/>
                </a:lnTo>
                <a:lnTo>
                  <a:pt x="0" y="24339"/>
                </a:lnTo>
                <a:close/>
              </a:path>
              <a:path fill="lightenLess" w="21600" h="243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9">
                <a:moveTo>
                  <a:pt x="21600" y="0"/>
                </a:moveTo>
                <a:lnTo>
                  <a:pt x="21600" y="24339"/>
                </a:lnTo>
                <a:lnTo>
                  <a:pt x="20200" y="22939"/>
                </a:lnTo>
                <a:lnTo>
                  <a:pt x="20200" y="1400"/>
                </a:lnTo>
                <a:close/>
              </a:path>
              <a:path fill="darkenLess" w="21600" h="24339">
                <a:moveTo>
                  <a:pt x="21600" y="24339"/>
                </a:moveTo>
                <a:lnTo>
                  <a:pt x="0" y="24339"/>
                </a:lnTo>
                <a:lnTo>
                  <a:pt x="1400" y="22939"/>
                </a:lnTo>
                <a:lnTo>
                  <a:pt x="20200" y="22939"/>
                </a:lnTo>
                <a:close/>
              </a:path>
              <a:path fill="lighten" w="21600" h="24339">
                <a:moveTo>
                  <a:pt x="0" y="243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9"/>
                </a:lnTo>
                <a:close/>
              </a:path>
              <a:path fill="darken" w="21600" h="24339">
                <a:moveTo>
                  <a:pt x="3794" y="5163"/>
                </a:moveTo>
                <a:lnTo>
                  <a:pt x="17806" y="12169"/>
                </a:lnTo>
                <a:lnTo>
                  <a:pt x="3794" y="191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2509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0200" y="170028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02000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11755"/>
                </a:moveTo>
                <a:lnTo>
                  <a:pt x="17806" y="4748"/>
                </a:lnTo>
                <a:lnTo>
                  <a:pt x="17806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5912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3640" y="1773360"/>
            <a:ext cx="2867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centi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4560" y="170028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658800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10800"/>
                </a:moveTo>
                <a:lnTo>
                  <a:pt x="19198" y="3794"/>
                </a:lnTo>
                <a:lnTo>
                  <a:pt x="191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700280"/>
            <a:ext cx="223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gra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up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5840" y="170028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94836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11629"/>
                </a:moveTo>
                <a:lnTo>
                  <a:pt x="17806" y="4623"/>
                </a:lnTo>
                <a:lnTo>
                  <a:pt x="17806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1700280"/>
            <a:ext cx="21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wei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4200" y="177336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380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13279"/>
                </a:moveTo>
                <a:lnTo>
                  <a:pt x="17806" y="6272"/>
                </a:lnTo>
                <a:lnTo>
                  <a:pt x="17806" y="202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0600" y="177336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how fast you fall through the 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8920" y="170028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380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13279"/>
                </a:moveTo>
                <a:lnTo>
                  <a:pt x="17806" y="6272"/>
                </a:lnTo>
                <a:lnTo>
                  <a:pt x="17806" y="202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700280"/>
            <a:ext cx="307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ravel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accel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44364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11463"/>
                </a:moveTo>
                <a:lnTo>
                  <a:pt x="17806" y="4457"/>
                </a:lnTo>
                <a:lnTo>
                  <a:pt x="17806" y="184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1700280"/>
            <a:ext cx="29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73272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3794" y="12979"/>
                </a:moveTo>
                <a:lnTo>
                  <a:pt x="17806" y="5972"/>
                </a:lnTo>
                <a:lnTo>
                  <a:pt x="17806" y="199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560" y="1700280"/>
            <a:ext cx="3882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oving steadi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5840" y="162864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6948360" y="6093000"/>
            <a:ext cx="648000" cy="76500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498">
                <a:moveTo>
                  <a:pt x="0" y="0"/>
                </a:moveTo>
                <a:lnTo>
                  <a:pt x="21600" y="0"/>
                </a:lnTo>
                <a:lnTo>
                  <a:pt x="21600" y="25498"/>
                </a:lnTo>
                <a:lnTo>
                  <a:pt x="0" y="25498"/>
                </a:lnTo>
                <a:close/>
              </a:path>
              <a:path fill="lightenLess" w="21600" h="25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98">
                <a:moveTo>
                  <a:pt x="21600" y="0"/>
                </a:moveTo>
                <a:lnTo>
                  <a:pt x="21600" y="25498"/>
                </a:lnTo>
                <a:lnTo>
                  <a:pt x="20200" y="24098"/>
                </a:lnTo>
                <a:lnTo>
                  <a:pt x="20200" y="1400"/>
                </a:lnTo>
                <a:close/>
              </a:path>
              <a:path fill="darkenLess" w="21600" h="25498">
                <a:moveTo>
                  <a:pt x="21600" y="25498"/>
                </a:moveTo>
                <a:lnTo>
                  <a:pt x="0" y="25498"/>
                </a:lnTo>
                <a:lnTo>
                  <a:pt x="1400" y="24098"/>
                </a:lnTo>
                <a:lnTo>
                  <a:pt x="20200" y="24098"/>
                </a:lnTo>
                <a:close/>
              </a:path>
              <a:path fill="lighten" w="21600" h="25498">
                <a:moveTo>
                  <a:pt x="0" y="25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98"/>
                </a:lnTo>
                <a:close/>
              </a:path>
              <a:path fill="darken" w="21600" h="25498">
                <a:moveTo>
                  <a:pt x="3794" y="12749"/>
                </a:moveTo>
                <a:lnTo>
                  <a:pt x="17806" y="5742"/>
                </a:lnTo>
                <a:lnTo>
                  <a:pt x="17806" y="1975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7280" y="1268280"/>
            <a:ext cx="149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04600" y="17928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1 for 1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0560" y="1700280"/>
            <a:ext cx="629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ces are always measur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centi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He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Pasca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3708360" y="9079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4538"/>
                </a:moveTo>
                <a:lnTo>
                  <a:pt x="17806" y="11544"/>
                </a:lnTo>
                <a:lnTo>
                  <a:pt x="3794" y="18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492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  <p:audio isNarration="0">
              <p:cMediaNode showWhenStopped="1">
                <p:cTn/>
                <p:tgtEl>
                  <p:spTgt spid="46"/>
                </p:tgtEl>
              </p:cMediaNode>
            </p:audio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680400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560" y="1700280"/>
            <a:ext cx="4312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etres per 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5480" y="1700280"/>
            <a:ext cx="422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6720" y="1197000"/>
            <a:ext cx="115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4920" y="285264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1 is Lo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5640" y="285264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2 is K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4920" y="2852640"/>
            <a:ext cx="64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3 is Stephen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9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3840" y="2852640"/>
            <a:ext cx="58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for question 4 is Lyns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4560" y="285264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5 is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4920" y="2852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6 is Rach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4920" y="285264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7 is Steve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4920" y="285264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for question 8 is G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4600" y="17928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2 for 5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3120" y="1700280"/>
            <a:ext cx="604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orce of the earth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earth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gra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up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780000" y="907920"/>
            <a:ext cx="504720" cy="621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1000"/>
              <a:gd name="textAreaBottom" fmla="*/ 588600 h 621000"/>
            </a:gdLst>
            <a:ahLst/>
            <a:rect l="textAreaLeft" t="textAreaTop" r="textAreaRight" b="textAreaBottom"/>
            <a:pathLst>
              <a:path w="21600" h="26573">
                <a:moveTo>
                  <a:pt x="0" y="0"/>
                </a:moveTo>
                <a:lnTo>
                  <a:pt x="21600" y="0"/>
                </a:lnTo>
                <a:lnTo>
                  <a:pt x="21600" y="26573"/>
                </a:lnTo>
                <a:lnTo>
                  <a:pt x="0" y="26573"/>
                </a:lnTo>
                <a:close/>
              </a:path>
              <a:path fill="lightenLess" w="21600" h="265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3">
                <a:moveTo>
                  <a:pt x="21600" y="0"/>
                </a:moveTo>
                <a:lnTo>
                  <a:pt x="21600" y="26573"/>
                </a:lnTo>
                <a:lnTo>
                  <a:pt x="20200" y="25173"/>
                </a:lnTo>
                <a:lnTo>
                  <a:pt x="20200" y="1400"/>
                </a:lnTo>
                <a:close/>
              </a:path>
              <a:path fill="darkenLess" w="21600" h="26573">
                <a:moveTo>
                  <a:pt x="21600" y="26573"/>
                </a:moveTo>
                <a:lnTo>
                  <a:pt x="0" y="26573"/>
                </a:lnTo>
                <a:lnTo>
                  <a:pt x="1400" y="25173"/>
                </a:lnTo>
                <a:lnTo>
                  <a:pt x="20200" y="25173"/>
                </a:lnTo>
                <a:close/>
              </a:path>
              <a:path fill="lighten" w="21600" h="26573">
                <a:moveTo>
                  <a:pt x="0" y="265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3"/>
                </a:lnTo>
                <a:close/>
              </a:path>
              <a:path fill="darken" w="21600" h="26573">
                <a:moveTo>
                  <a:pt x="3794" y="6280"/>
                </a:moveTo>
                <a:lnTo>
                  <a:pt x="17806" y="13286"/>
                </a:lnTo>
                <a:lnTo>
                  <a:pt x="3794" y="202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8028000" y="105264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58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3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86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285264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9 is Pa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5640" y="2852640"/>
            <a:ext cx="60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10 is Soph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 repeatCount="100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1600" y="372960"/>
            <a:ext cx="715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do a walking activity to plot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16436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2"/>
                </a:moveTo>
                <a:lnTo>
                  <a:pt x="17806" y="11788"/>
                </a:lnTo>
                <a:lnTo>
                  <a:pt x="3794" y="187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0360" y="6329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4790"/>
                </a:moveTo>
                <a:lnTo>
                  <a:pt x="17806" y="11797"/>
                </a:lnTo>
                <a:lnTo>
                  <a:pt x="3794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980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04240" y="17928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3 for 2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520" y="1700280"/>
            <a:ext cx="788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force always works opposite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ay an object i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wei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bun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780000" y="9079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8172360" y="98100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5128"/>
                </a:moveTo>
                <a:lnTo>
                  <a:pt x="17806" y="12135"/>
                </a:lnTo>
                <a:lnTo>
                  <a:pt x="3794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58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13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86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1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4240" y="17928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4 for 8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040" y="1773360"/>
            <a:ext cx="526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n objec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it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its mass x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its mass /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780000" y="907920"/>
            <a:ext cx="576000" cy="621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1000"/>
              <a:gd name="textAreaBottom" fmla="*/ 583920 h 621000"/>
            </a:gdLst>
            <a:ahLst/>
            <a:rect l="textAreaLeft" t="textAreaTop" r="textAreaRight" b="textAreaBottom"/>
            <a:pathLst>
              <a:path w="21600" h="23286">
                <a:moveTo>
                  <a:pt x="0" y="0"/>
                </a:moveTo>
                <a:lnTo>
                  <a:pt x="21600" y="0"/>
                </a:lnTo>
                <a:lnTo>
                  <a:pt x="21600" y="23286"/>
                </a:lnTo>
                <a:lnTo>
                  <a:pt x="0" y="23286"/>
                </a:lnTo>
                <a:close/>
              </a:path>
              <a:path fill="lightenLess" w="21600" h="232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6">
                <a:moveTo>
                  <a:pt x="21600" y="0"/>
                </a:moveTo>
                <a:lnTo>
                  <a:pt x="21600" y="23286"/>
                </a:lnTo>
                <a:lnTo>
                  <a:pt x="20200" y="21886"/>
                </a:lnTo>
                <a:lnTo>
                  <a:pt x="20200" y="1400"/>
                </a:lnTo>
                <a:close/>
              </a:path>
              <a:path fill="darkenLess" w="21600" h="23286">
                <a:moveTo>
                  <a:pt x="21600" y="23286"/>
                </a:moveTo>
                <a:lnTo>
                  <a:pt x="0" y="23286"/>
                </a:lnTo>
                <a:lnTo>
                  <a:pt x="1400" y="21886"/>
                </a:lnTo>
                <a:lnTo>
                  <a:pt x="20200" y="21886"/>
                </a:lnTo>
                <a:close/>
              </a:path>
              <a:path fill="lighten" w="21600" h="23286">
                <a:moveTo>
                  <a:pt x="0" y="232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6"/>
                </a:lnTo>
                <a:close/>
              </a:path>
              <a:path fill="darken" w="21600" h="23286">
                <a:moveTo>
                  <a:pt x="3794" y="4637"/>
                </a:moveTo>
                <a:lnTo>
                  <a:pt x="17806" y="11643"/>
                </a:lnTo>
                <a:lnTo>
                  <a:pt x="3794" y="186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58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13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86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13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4240" y="179280"/>
            <a:ext cx="71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5 for 32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7120" y="1700280"/>
            <a:ext cx="758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ust of a car engine makes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ravel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accel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3635280" y="836640"/>
            <a:ext cx="647640" cy="765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  <a:path fill="darken" w="21600" h="25512">
                <a:moveTo>
                  <a:pt x="3794" y="5750"/>
                </a:moveTo>
                <a:lnTo>
                  <a:pt x="17806" y="12756"/>
                </a:lnTo>
                <a:lnTo>
                  <a:pt x="3794" y="197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8" action="ppaction://hlinksldjump"/>
          </p:cNvPr>
          <p:cNvSpPr/>
          <p:nvPr/>
        </p:nvSpPr>
        <p:spPr>
          <a:xfrm>
            <a:off x="8244000" y="83664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358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13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86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13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04240" y="179280"/>
            <a:ext cx="71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6 for 64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600" y="1700280"/>
            <a:ext cx="722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worked out by divi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3492360" y="83664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4480"/>
                </a:moveTo>
                <a:lnTo>
                  <a:pt x="17806" y="11486"/>
                </a:lnTo>
                <a:lnTo>
                  <a:pt x="3794" y="184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5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1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86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1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7 for 125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3680" y="1700280"/>
            <a:ext cx="835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lat line for a distance time graph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d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oving steadi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780000" y="9079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3794" y="5972"/>
                </a:moveTo>
                <a:lnTo>
                  <a:pt x="17806" y="12979"/>
                </a:lnTo>
                <a:lnTo>
                  <a:pt x="3794" y="199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8244000" y="90792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358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13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86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13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8 for 25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3680" y="1268280"/>
            <a:ext cx="801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eep line means the object is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ll over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round the b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20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435640" y="54756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13440" y="836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3492360" y="692280"/>
            <a:ext cx="649440" cy="691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91920"/>
              <a:gd name="textAreaBottom" fmla="*/ 650160 h 691920"/>
            </a:gdLst>
            <a:ahLst/>
            <a:rect l="textAreaLeft" t="textAreaTop" r="textAreaRight" b="textAreaBottom"/>
            <a:pathLst>
              <a:path w="21600" h="23012">
                <a:moveTo>
                  <a:pt x="0" y="0"/>
                </a:moveTo>
                <a:lnTo>
                  <a:pt x="21600" y="0"/>
                </a:lnTo>
                <a:lnTo>
                  <a:pt x="21600" y="23012"/>
                </a:lnTo>
                <a:lnTo>
                  <a:pt x="0" y="23012"/>
                </a:lnTo>
                <a:close/>
              </a:path>
              <a:path fill="lightenLess" w="21600" h="23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2">
                <a:moveTo>
                  <a:pt x="21600" y="0"/>
                </a:moveTo>
                <a:lnTo>
                  <a:pt x="21600" y="23012"/>
                </a:lnTo>
                <a:lnTo>
                  <a:pt x="20200" y="21612"/>
                </a:lnTo>
                <a:lnTo>
                  <a:pt x="20200" y="1400"/>
                </a:lnTo>
                <a:close/>
              </a:path>
              <a:path fill="darkenLess" w="21600" h="23012">
                <a:moveTo>
                  <a:pt x="21600" y="23012"/>
                </a:moveTo>
                <a:lnTo>
                  <a:pt x="0" y="23012"/>
                </a:lnTo>
                <a:lnTo>
                  <a:pt x="1400" y="21612"/>
                </a:lnTo>
                <a:lnTo>
                  <a:pt x="20200" y="21612"/>
                </a:lnTo>
                <a:close/>
              </a:path>
              <a:path fill="lighten" w="21600" h="23012">
                <a:moveTo>
                  <a:pt x="0" y="23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2"/>
                </a:lnTo>
                <a:close/>
              </a:path>
              <a:path fill="darken" w="21600" h="23012">
                <a:moveTo>
                  <a:pt x="3794" y="4500"/>
                </a:moveTo>
                <a:lnTo>
                  <a:pt x="17806" y="11506"/>
                </a:lnTo>
                <a:lnTo>
                  <a:pt x="3794" y="185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7956720" y="765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358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1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86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13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1:40:42Z</dcterms:created>
  <dc:creator>CHE</dc:creator>
  <dc:description/>
  <dc:language>en-US</dc:language>
  <cp:lastModifiedBy>Alex Robson</cp:lastModifiedBy>
  <dcterms:modified xsi:type="dcterms:W3CDTF">2005-12-03T20:18:24Z</dcterms:modified>
  <cp:revision>28</cp:revision>
  <dc:subject/>
  <dc:title>Slide 1</dc:title>
</cp:coreProperties>
</file>