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09788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097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097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097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409788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4097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4097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4097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0" lang="en-US" sz="6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199"/>
              </a:spcAft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66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2" marL="1143000" indent="-228600">
              <a:spcAft>
                <a:spcPts val="1199"/>
              </a:spcAft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3" marL="1600200" indent="-228600">
              <a:spcAft>
                <a:spcPts val="1199"/>
              </a:spcAft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4" marL="2057400" indent="-228600">
              <a:spcAft>
                <a:spcPts val="1199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5" marL="2057400" indent="-228600">
              <a:spcAft>
                <a:spcPts val="1199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6" marL="2057400" indent="-228600">
              <a:spcAft>
                <a:spcPts val="1199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250040" y="4964040"/>
            <a:ext cx="1893960" cy="189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0" lang="en-US" sz="60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669900"/>
                </a:solidFill>
                <a:latin typeface="Arial"/>
              </a:rPr>
              <a:t>Fiojons </a:t>
            </a:r>
            <a:endParaRPr b="0" lang="en-US" sz="6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199"/>
              </a:spcAft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9900"/>
                </a:solidFill>
                <a:latin typeface="Arial"/>
              </a:rPr>
              <a:t>Are you over 14 years old?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9900"/>
                </a:solidFill>
                <a:latin typeface="Arial"/>
              </a:rPr>
              <a:t>Are you reliable and trustworthy?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9900"/>
                </a:solidFill>
                <a:latin typeface="Arial"/>
              </a:rPr>
              <a:t>Can you get up early every day?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9900"/>
                </a:solidFill>
                <a:latin typeface="Arial"/>
              </a:rPr>
              <a:t>If so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9900"/>
                </a:solidFill>
                <a:latin typeface="Arial"/>
              </a:rPr>
              <a:t>Come and work for us here at Fiojons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3T14:35:55Z</dcterms:created>
  <dc:creator/>
  <dc:description/>
  <dc:language>en-US</dc:language>
  <cp:lastModifiedBy/>
  <dcterms:modified xsi:type="dcterms:W3CDTF">2010-10-13T19:42:06Z</dcterms:modified>
  <cp:revision>10</cp:revision>
  <dc:subject/>
  <dc:title>PRESENT</dc:title>
</cp:coreProperties>
</file>