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D12-CD87-4FDB-AA83-6E8A3FCD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2AC-2410-41CD-B9E2-0E585772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922-875B-44C9-830C-AFFA95E6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D6A-A205-4E25-8D78-2D1DBFE9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A37-A501-42D5-9C74-F6509E96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AC9-28DF-4CEE-AE40-A4609D4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D4C-A9F0-4D2D-8127-9394BC3A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9F4-1EAD-4A23-A2BC-6FF9347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698-BC9B-42E5-A41E-7710219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8D7-6A2D-4033-A61F-E6CF496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16F-9610-4C5C-B78D-3E1CD78B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58F-2E44-4992-AA9F-46ECB42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rush Script MT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rush Script MT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27DD-B2D1-458A-94E0-4292A05407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99"/>
                </a:solidFill>
                <a:latin typeface="Brush Script MT"/>
              </a:rPr>
              <a:t>Tour of Yorkshire</a:t>
            </a:r>
            <a:endParaRPr b="0" lang="en-US" sz="44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Brush Script MT"/>
              </a:rPr>
              <a:t>7 – 12 July 2014</a:t>
            </a:r>
            <a:endParaRPr b="0" lang="en-US" sz="3200" spc="-1" strike="noStrike">
              <a:solidFill>
                <a:srgbClr val="003399"/>
              </a:solidFill>
              <a:latin typeface="Brush Script MT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68360" y="6021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Brush Script MT"/>
              </a:rPr>
              <a:t>PMMM Cycles Lt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0:04:06Z</dcterms:created>
  <dc:creator/>
  <dc:description/>
  <dc:language>en-US</dc:language>
  <cp:lastModifiedBy/>
  <dcterms:modified xsi:type="dcterms:W3CDTF">2014-03-13T09:52:23Z</dcterms:modified>
  <cp:revision>1</cp:revision>
  <dc:subject/>
  <dc:title/>
</cp:coreProperties>
</file>