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CD28B-52D2-4DEF-A1FF-BC29D2AA0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61E6-F911-4D96-9BEB-B44722C332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4ABFB3-C9E7-454A-AF53-677AB8F3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4AE11-EEF7-456D-B609-E43D7170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BA1C1-38D0-481D-ABD1-E965FA4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02586-5EB4-43A5-A6BB-666582E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75412-2B0D-485E-91A9-6CCDC58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23479-5CE9-4A54-B176-EE47998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BB210B-F98F-43EA-91D3-199DD19C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B0F57-0E55-4A79-B5EE-86ADA78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6FD48-5BA8-42CE-80B9-7CC275D4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EBE070-DB03-4E21-8B90-2FC21EB3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34F4-CB67-45BF-AA73-E1351498F7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55B985-2C93-4E60-A647-62C98E6D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164DD0-E777-46AA-9C34-6BA0DD9A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F549F-8127-4810-8663-BFCD5349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7C62A-078F-463C-AAFC-FDDEBF34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ADE133-97F4-42ED-BD46-F72F354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3889B-D8BB-4537-82A4-08B53CB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52A2F9-6AE4-4C2F-927C-127F01E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811E66-B1B1-427A-87C7-8100839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E23083-FB3E-4888-B625-28B4A4F0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6B278-4F29-4606-B6CB-6BCB9080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338F-8236-468A-B1EF-717CCF82E2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F04EBF-320C-40FB-A69B-F98FF9E0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FDF028-6820-4458-8B5D-877106A0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C0CEC7-0C35-446A-B674-90470F9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BA6EC5-9658-47E7-A136-5CAEA6AC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59A6C-6270-48C9-BA53-D3A83BD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AC39A0-81C9-4CC4-8661-9C4D1995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16024C-96EB-4FDB-AFF7-15373DA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B8270F-795D-4DEB-8F22-B465774E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333F54-297D-4E08-8D56-99B6069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4E5C9-F3F2-43DB-8C76-6B97959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E4F2-179C-4613-A750-80F927FB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87007A-D68C-49C1-9BF1-F535D4B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84F6F8-FC19-4217-A398-40E379E2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7AE087-7B63-430C-8E9C-3B97D311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840F-69BD-4E0D-BFAB-1C0E80EE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DE2B1-FC68-474F-BFA5-C1028BA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40A3A-6205-4290-A90D-85F38229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2BE02-CB09-4D05-9767-1D419E9B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2691C-40CF-40F8-A0E4-044674D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A580E-3F88-4219-BC28-B43BDB0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D34E-DFAD-4F82-B920-D38489364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899BF-46D2-4B3C-B33C-A528791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FAABD-7539-4FD3-B4A7-BD22508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E05B-4F56-4D6C-9655-C06ED213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D40A6-818E-4595-B08D-20E4CD09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D4F67-4935-4088-AA4A-0B729ED0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F07BA-55AA-4950-9FD1-6B7CA3E4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EEBB-3A9E-4AA2-A483-C992B03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9F609-C9BF-471A-AF5F-FFB7BA6F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707D5-739C-443B-9D05-410F24B9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2648D-9902-4774-ABD3-D94550A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3B78-3A10-40F7-BE45-45EED4562C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17180-7F1A-4D98-A3FC-2A98F5D6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3C6D7-5EA8-43D8-94B2-1198CBE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9E000-0A77-48B5-97C2-5BAEA04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A735D-93D8-46BB-80DF-737967E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63AE6-81FF-4BD0-9388-6D440FCF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341C5-93A1-4603-9E13-D89671C5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FF026-0A6C-4EE1-8E7A-C51DA1F0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E7EB5-6865-4BDC-80D7-5F52ACE3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56532-DF20-4717-B466-4845223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5B8D5-3543-45A4-894B-607FA524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4316-BA17-4077-8ED3-F4F8B532FB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49295-7750-46F4-BBE4-0C04CB5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300E1-524D-4D35-81C1-6A36D68D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3756E-2E4F-4FF4-949D-213B7BAE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FE2D8-2FD0-4BAE-8B41-074486FA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61BFC-E7BA-4267-99C5-E2A49D7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0F351-79D5-4BD7-93B3-F8D2C71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AE58B-6411-41DB-B27E-F110E2F1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1BFEB-21AD-4179-A5D0-58F2A59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BFD06-02D4-45D3-8674-C98279B8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60115-F89E-49F4-B80D-05E9785A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114F-8AB0-4F5A-84F3-EA61325D66E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333B5-4C6A-4E36-B16D-BF67B1F6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2E4DF-5902-4F3A-92DE-43BF400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99F1F-0D25-4A38-92C2-BC7D2764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0E0CF-F128-4FAA-823B-7AF6894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77D5B-D214-4653-B0CE-2265FAAF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76E84-BE96-4893-A444-4B900C8A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136D5-D6CB-4AF3-8BEB-5E487D6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55B6D-A4C8-4042-ABC5-9996477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CC8F8-F1BE-4CF5-8637-00239FE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27638-D3EB-4125-8AC5-FF1679D0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F1D7-10B6-442F-BC0A-BA0D1D9D94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1B4E0-2834-4339-9A87-D4EF7E8A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5FE1B-E7DF-400F-B60E-A3097A18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85A71-8B11-4EDB-90EC-EACB8BF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115AA-95DA-45B8-A36A-90ECC84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A5EFB-568C-4C61-95D6-5982ADB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96A58-9C20-4B69-B8C6-D1629071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CD744-602A-41F8-B8CE-4364FF8A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780B9-BFCB-4D2E-BA99-BC3A10C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52CE4-6987-43EA-90DE-56866EC8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7E55F-CABE-4FB6-A68F-E6D4DF3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FF1C-D8E4-4263-98EF-F976B08E63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34579-C9B9-4DA6-AB6C-FC4EA70A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EEBCE-57AE-4E67-A627-DF553417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8FAFD-BB84-4526-B519-AC725F0B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8CC94-E344-4FFF-9995-783FD10E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DF452-DAB7-4B66-85F9-F2EC57CA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EAD67-AEEE-4D50-89E4-30F8A2DB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BF7DD-F135-49C3-8179-B7E36B47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93784-D597-4B2B-845A-B2B8C55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E33CB-7A83-423D-8BA6-06EFD09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E7F16-B48B-4873-B44C-BB2D324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1B0A-5E47-41F6-B775-064131424C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769EC-E9D8-41F3-B8AC-6F0356E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04240-95B7-46C4-B685-C5A0391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2B15C-914E-4A7A-9B05-2C82EF0E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EFEB7-8A29-47B4-817D-30B84A77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319FF-6632-4675-BF9B-EBECDCF7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7A0501-862A-42A7-87A3-1D4A7778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B192C-037C-4078-B353-8E345240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378CF-0943-49C0-A0EB-B03C1003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B9BDC7-1DFC-4E82-8882-A02E566E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C9613-81E4-42BD-A1E3-82FA5C8E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FA44-DEFD-4F0B-9090-22DD3012D8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576F67-28FB-472F-BA75-2F19A07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CB0DB-A5F0-46E9-AD59-0D5A6B8A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EA6AA-D5C7-4836-B171-E97F762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8CBC0-2A78-46B0-A72C-B921FFF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00F55-2542-4A49-8924-5B86915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60344-8127-4B94-A251-6B395183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F55690-6C90-41DD-8AE2-520FA503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7D744-5D10-4EC6-9A8D-10982BD1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1901EC-3D77-43B7-8797-ECA6CE35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F951E-07D0-41A0-87E8-BE162EE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9BD-5EFC-40BE-871E-DB6AE73A75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F1C-9FAA-44ED-BC66-077C7CC421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FDD-22A7-4413-9B82-2741DA16FB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6A5-15B8-4B8A-98CB-764DE7F556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1B05-21A5-4F05-BE05-3E9D039E30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CEE-0FDB-4CB1-8C88-B4C4274A90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130-E6F2-4B2B-B63A-932F48B798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9CC6-72BC-46C2-B356-6BD0BEF277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7CF-A80D-4CD8-98F4-FE50CDA146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FF4F-FD5E-4165-B030-788BC525C7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e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2D4-4192-45E7-836D-828EBA4FFA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skerville Old Face"/>
              </a:rPr>
              <a:t>WHYLDE SAFARI PARK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Where wildlif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is closer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Baskerville Old Face"/>
              </a:rPr>
              <a:t>than you think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4:21:22Z</dcterms:created>
  <dc:creator>Peter Muir</dc:creator>
  <dc:description/>
  <dc:language>en-US</dc:language>
  <cp:lastModifiedBy>Peter Muir</cp:lastModifiedBy>
  <dcterms:modified xsi:type="dcterms:W3CDTF">2013-04-22T16:59:10Z</dcterms:modified>
  <cp:revision>4</cp:revision>
  <dc:subject/>
  <dc:title>WHYLDE SAFARI PARK</dc:title>
</cp:coreProperties>
</file>