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39CA-AEA0-4D26-9B0D-3C45778FB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slide – see next slide for outline of Session 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115F-BBB9-4632-8C92-0DD35EE6B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tudents should be clear in their mind the meaning of the various command words stated on p22 of the syllabus under the section entitled ‘Glossary of terms used in science papers’ . A command word is often the first word of the question for which a specific answer is requi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 words such as ‘suggest’ may have two meanings. (1) to imply that there is more than one correct answer; (2) to imply that candidates should apply their general chemical knowledge to an unfamiliar situation.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a way of changing zinc carbonate into zinc sulphat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how you could find out the pH on the surface of your sk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B58A-3721-4C90-8236-BF4635334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ure of the various command words can be studied by reference to Handout 2.8 (Command words – what answer do you expect?). The command words may be put into various groups depending on the extent or the detail of the answer required. Some of these are shown on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re is time the questions on Handout 2.8 could be done during the session, but it is probably best done by the delegates in their own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st difficult command words to distinguish between are probably ‘explain’, ‘describe’, ‘suggest’ and the phrase ‘what do you understand by…’. These are the most important to deal with in the context of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4C67-6ECD-4AC7-9D8F-9DED4AF38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grade descriptors are not only useful to Examiners for setting the levels of questions in a paper but are also useful for teachers because they can be used as a general guide for what students can and cannot do in general rather than specific terms. Many teachers find them useful for writing reports, because they cover the generalised areas of student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E9FD-07CF-4F0F-BD60-60373BE23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six bullet points for each of the grade descriptions on p19 of the syllabus can be compared. For examp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bullet point for grades A, C and F concerns how facts are us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bullet point concerns techniques used for procedures/ operations (including practical work).</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If there is time, you could get the delegates to suggest their main areas of concern of the other 4 sets of bulle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2A27-17D2-4B97-AF46-17181CFE8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Examiners have some idea of the responses needed for a particular question. However, when the examiners meet together, they may decide to either ‘free up’ the mark scheme to allow a wider range of responses or ‘tighten it up’ to allow a narrower range of responses. The former is more usually done than the la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ification of the mark scheme will depend on the nature of the question and how it is felt that the candidates have interpreted it. Candidates are given credit wherever possible within the range of answers allow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CD61-81AB-4988-B577-BB5D24D91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marking is not a straightforward application of the mark scheme because cases often arise where the Examiner need to apply his or her judge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rrect science which has answered the question is always given credit even if it does not appear on the mark schem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candidates have contradicted themselves, it is not clear that they know what the correct answer is and so they will be penalised (see next slid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ndidates giving multiple answers to a question requiring only one answer may also be penalised if one or more of the answers is incorrect. Since candidates for whom English is a second language do not always have a strong command of the English language, every effort is made to  give all candidates credi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general rule in Chemistry papers is that if the words are approximately phonetically correct, credit is given. The exception to this is where a word important in Chemistry or to the context of the question could be mistaken for another word which would lead to an incorrect answer. For example ‘sodium chlorind’ for ‘sodium chloride’. In this case ‘chlorind’ could be ‘chloride’ or ‘chlorine’ so cannot be given credit. Examiners may, however, be stricter when it comes to naming pieces of apparatus, such as condenser, burette, but even here the exactitude of spelling is based on phonetics rather than absolute written accura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1F27-04D5-4E2E-83B5-8ED9A6A31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it is important that students write the correct type of equation in response to the question. Writing a symbol equation to a question that requires a word equation is a common problem – see Examiner Reports. Although the argument may be made that writing a correct symbol equation is a higher level activity, the candidate who writes this when a word equation is asked for may penalise themselves because (1) they have not understood the meaning of a word equation (2) there is no evidence that they know the correct chemical name of the compound(s) for which they have written the formula(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f word equations have two marks available, one mark is usually for each correct product (or if 3 products 2 for 3 correct and 1 for 2 correct). No marks are given for merely repeating the information in the stem of the ques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ymbol equations may be marked in various ways and the marking will also depend on whether state symbols are required or not. Usually one mark is given for correct fomulae and one mark for correct balance, although there are many other possibiliti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out 2.13 (Marking equations) could be referred to if there is time. A sheet of answers is also available with reasons for the marks give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stressed that in the examination, how the question is marked will ultimately depend on what the examining team decide is fai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1FF1-3880-4F60-927E-012CD6ECC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only two answers are given, one of which is incorrect, one mark is given for the correct answer and the incorrect answer is ignored. This is because the examiners are testing what the candidate kn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ever, if more than two answers are given, two possible methods are available for marking these: (1) accepting the first two answers only (2) accepting each correct answer for 1 mark but taking off a mark for each incorrect answer. How the examiners deal with this will depend on the question, but if candidates contradict an earlier question, or show they do not know the answer and are guessing, they will usually not gain marks and may lose marks that would otherwise have been awarded.  For example, candidate C would score two marks by method (1) but has clearly made a mistake and this has been no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ing extra answers is not uncommon and teachers should advise their students not to put in ‘extra answers’ since this may well lead to them losing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215B-AF1D-4C94-86D2-8FD024EDE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ing a white precipitate is dependent upon adding the correct reagent. Most examiners stick to the rule that if the reagent is incorrect, no marks will be scored even if the colour of the precipitate is correct. It is therefore important that students learn the tests on p21 of the 2005 syllabus. Students who find it difficult to memorise these, should be encouraged to concentrate on the test colum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ependent questions such as these involve, for example, effects of specific pollutants on the environment. In the above: Answer A scores one mark for the silver nitrate, the second mark is not given as there is no precipitate. The word ‘acid’ alone is neut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swer B does not score any marks because by adding hydrochloric acid, we have added chloride ions, which are being tested and so invalidating the whole t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swer C does not score any marks because the reagent is in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8448-ED40-4333-A718-0A5A3FED6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when answering longer explanatory questions, some candidates write in much detail. While this is in itself commendable, it does increase the possibility of the candidate contradicting him or herself and thus losing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less the question is couched in a way so as to preclude it, explanations using suitably labelled diagrams is acceptable. This also helps the Examiner understand what the candidate is trying to expla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out 2.16 (Questions involving longer explanations) could be given to delegates, if there is time, for them to mark. A separate sheet (headed ‘marks and comments’) showing why the marks are awarded is also given as Handout 2.16(b) (the second part of Handout 2.16). This should only be given out after the exercise has been don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19C7-A0E8-4FCA-BB93-0853F2752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D068-F7AE-4CBD-8686-F5D073862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that all remaining slides in this Unit are extension material for completion outside the time allowed for this training. You may decide to arrange an extra training session so that this work can be completed as a group. Allow a minimum of tw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for each part of a question, a good mark scheme should be easily and quickly readable and make clear the range of acceptable answers available together with a list of unacceptable answ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tinue by explaining that for numerical problems involving several steps, a mistake in any one part is only penalised for that part. Marks are then awarded as error carried forward (ecf) for subsequent parts. Thus if 4 marks are available for a calculation and the candidate makes a mistake in the first step, the candidate can still gain 3 marks as long as the subsequent working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answers where a range of values are possible e.g. extrapolation of the boiling point from a table of data, a range of acceptable values should be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EFBD-0749-47BE-BFCD-258608133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delegates should try to write a mark scheme in their own time. Handout 2.18 (Creating a mark scheme) gives the question. Delegates should work out how many marks they would give and write their own mark scheme. If training is carried out over a number of days, the feedback and analysis could be given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2AD6-19FA-4DF8-AA98-E360F20AB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are given some candidate responses to the question for which they created a mark scheme. Handout 2.19 (Reviewing the mark scheme) allows them to assess their scheme in terms of the responses given by the candidates. If training is carried out over a number of days, the feedback and the Examiner’s mark scheme could be given later (see next slide). Delegates may realise that they may need to modify their mark scheme in the light of the candidate’s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D352-B6B3-4447-A23A-6F77A70E2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s/ hydrogen given off are not SEEN. They are statements of what is happe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s violently’ is about the speed of the reaction not what is se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reaction’ is in the stem of the question so cannot be given credi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104C-AAE6-4DE0-9D86-D534BD8AC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b) a reasonable range of temperatures is given, is given not an average of the two. Some idea of a reaction at a faster rate than simple rapid reaction is needed hence fast</a:t>
            </a:r>
            <a:r>
              <a:rPr b="0" lang="en-GB" sz="1200" spc="-1" strike="noStrike" u="sng">
                <a:solidFill>
                  <a:srgbClr val="000000"/>
                </a:solidFill>
                <a:uFillTx/>
                <a:latin typeface="Arial"/>
              </a:rPr>
              <a:t>er</a:t>
            </a:r>
            <a:r>
              <a:rPr b="0" lang="en-GB" sz="1200" spc="-1" strike="noStrike">
                <a:solidFill>
                  <a:srgbClr val="000000"/>
                </a:solidFill>
                <a:latin typeface="Arial"/>
              </a:rPr>
              <a:t> but not fa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i) (not shown on slide) the equation: 2K(s)  +  Cl</a:t>
            </a:r>
            <a:r>
              <a:rPr b="0" lang="en-GB" sz="800" spc="-1" strike="noStrike">
                <a:solidFill>
                  <a:srgbClr val="000000"/>
                </a:solidFill>
                <a:latin typeface="Arial"/>
              </a:rPr>
              <a:t>2</a:t>
            </a:r>
            <a:r>
              <a:rPr b="0" lang="en-GB" sz="1200" spc="-1" strike="noStrike">
                <a:solidFill>
                  <a:srgbClr val="000000"/>
                </a:solidFill>
                <a:latin typeface="Arial"/>
              </a:rPr>
              <a:t>(g)  </a:t>
            </a:r>
            <a:r>
              <a:rPr b="0" lang="en-GB" sz="1200" spc="-1" strike="noStrike">
                <a:solidFill>
                  <a:srgbClr val="000000"/>
                </a:solidFill>
                <a:latin typeface="Times New Roman"/>
                <a:ea typeface="Times New Roman"/>
              </a:rPr>
              <a:t>→ 2KCl(s) </a:t>
            </a:r>
            <a:r>
              <a:rPr b="0" lang="en-GB" sz="1200" spc="-1" strike="noStrike">
                <a:solidFill>
                  <a:srgbClr val="000000"/>
                </a:solidFill>
                <a:latin typeface="Arial"/>
                <a:ea typeface="Times New Roman"/>
              </a:rPr>
              <a:t>may give 3 marks, one for correct formulae, one for correct balance and one for correct state symb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ii) a third mark could have been given for dissolving the precipitate in nitric acid. Note that an incorrect reagent results in no mark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F9F5-7EC8-41C2-95B6-EA58F9A18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 are two essential points: (1) the nature of the charged particles (2) the movement of the charged particles. Both of these must be stated to get a single ma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word ‘charges’ alone is too vague to gain a mark – it could refer to electrons, which would be wrong. Students should also be discouraged from writing statements such as ‘ions are free’ as no movement is implied in this statemen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ith delegates that they should now appreciate what examiners are looking for when they set question papers and the mark schemes which go with them.  Teaching methods should develop the skills outlined in the assessment objectives and formative assessment should inform the teacher the extent of development of these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3C85-D53B-4C88-98F0-A541E1B56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2 will cover and that some work such as a lengthier analysis of questions papers and creation of mark schemes will have to be done outside the sessions. Delegates will need access to the current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8DA2-9C4F-43BC-AE68-BA9D2C60C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construction of a question paper should be based on the assessment objectives at the beginning of the syllabus. Remind the delegates of what these are and point out that questions about practical applications can also be set in the theory papers. For example, candidates could be asked to draw and label specific pieces of apparatus, draw and interpret information from graphs and evaluate information from tables and graph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verall percentage of recall in a paper is usually no more than 30%. This figure takes into account both assessment objectives of knowledge with understanding and handling information and solving problems. Questions leading to higher grades involve a greater proportion of problem solving and testing of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CF47-9535-4868-8222-8BC720763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2.3 (Which assessment objectives?) asks delegates to try to analyse which assessment objectives are being used in a particular question. </a:t>
            </a:r>
            <a:r>
              <a:rPr b="1" i="1" lang="en-US" sz="1200" spc="-1" strike="noStrike">
                <a:solidFill>
                  <a:srgbClr val="000000"/>
                </a:solidFill>
                <a:latin typeface="Arial"/>
              </a:rPr>
              <a:t>This may be done as extra work outside this training if time is sh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4D59-4E41-467C-8D09-EDFD56C5F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are constructed to help the candidates show what they do know rather than what they don’t. Examiners pay careful attention to a logical arrangement of material in a question in order to help the candidates as much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idates should be encouraged to use information from earlier in a question to help answer (or to act as a trigger for)  later p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em of a question often gives vital information –  a large number of candidates do not see questions as a whole and only concentrate on the individual parts they are doing at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375F-967E-4298-8029-4B5078360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possible, the examiners try to provide a gradation of difficulty within a question as well as within the paper as a whole. This is not always the case however – the logical sequence of a question sometimes overrides the gradation of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4BFF-4BA5-46E4-8B87-150881DF7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when setting a paper, the examiners need to ensure that there is a good range of difficulty of questions available. Some of the assessment objectives such as using correct scientific words and units and selecting information are relatively low level activities, whereas presenting reasoned explanations and problem solving are higher level activities. The mark scheme is written alongside the question paper. No question is drafted without consideration of the responses which candidates are expected to give and the marks to be awarded to correct respons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fore writing a question the examiner should have some sort of idea as to what he or she requires as a target answer in order to relate particular questions to particular grad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 schemes may be altered at meeting of examiners to take into account the answers of the candida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general, marks are awarded for positive achievement in answering the question (within certain confin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ark scheme can be ‘freed up’ to allow for a wider spread of answers than originally proposed or it can be tightened up to allow a more specific range of answers if it is felt that the question is required to discriminate between higher grades. Any correct answer which is not on the mark scheme will be given credi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0196-8AD7-4022-9EDE-B4205479A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higher grades are often achieved by candidates who are able to assess and translate information from one form to another and to deal with situations which are unfamiliar to them. Such questions also mirror the aims of the course stated at the beginning of the syllabus  e.g. encourage concern for objectivity, integrity, enquiry, initiative and inventiveness, and promote scientific awarenes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ual questions may fall into several group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involving basic chemical processes e.g. water purification. chemical properties of concrete related to building, analysis of information from tab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chemistry to the environment (both detrimental and beneficial eff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effect of chemistry on everyday life e.g. economic and sociological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37000"/>
            <a:ext cx="813744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ervice Teacher Training</a:t>
            </a:r>
            <a:br>
              <a:rPr sz="4000"/>
            </a:br>
            <a:br>
              <a:rPr sz="4000"/>
            </a:br>
            <a:endParaRPr b="0" lang="en-US" sz="4400" spc="-1" strike="noStrike">
              <a:solidFill>
                <a:srgbClr val="000000"/>
              </a:solidFill>
              <a:latin typeface="Arial"/>
            </a:endParaRPr>
          </a:p>
        </p:txBody>
      </p:sp>
      <p:sp>
        <p:nvSpPr>
          <p:cNvPr id="96" name="PlaceHolder 2"/>
          <p:cNvSpPr>
            <a:spLocks noGrp="1"/>
          </p:cNvSpPr>
          <p:nvPr>
            <p:ph type="subTitle"/>
          </p:nvPr>
        </p:nvSpPr>
        <p:spPr>
          <a:xfrm>
            <a:off x="468000" y="4005360"/>
            <a:ext cx="806436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Chemistry 0620</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2: Question papers and mark sche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1):</a:t>
            </a:r>
            <a:br>
              <a:rPr sz="4000"/>
            </a:br>
            <a:r>
              <a:rPr b="0" lang="en-US" sz="4000" spc="-1" strike="noStrike">
                <a:solidFill>
                  <a:srgbClr val="74a5cd"/>
                </a:solidFill>
                <a:latin typeface="Arial"/>
              </a:rPr>
              <a:t>Command words</a:t>
            </a:r>
            <a:endParaRPr b="0" lang="en-US" sz="4000" spc="-1" strike="noStrike">
              <a:solidFill>
                <a:srgbClr val="74a5cd"/>
              </a:solidFill>
              <a:latin typeface="Arial"/>
            </a:endParaRPr>
          </a:p>
        </p:txBody>
      </p:sp>
      <p:sp>
        <p:nvSpPr>
          <p:cNvPr id="114" name="PlaceHolder 2"/>
          <p:cNvSpPr>
            <a:spLocks noGrp="1"/>
          </p:cNvSpPr>
          <p:nvPr>
            <p:ph/>
          </p:nvPr>
        </p:nvSpPr>
        <p:spPr>
          <a:xfrm>
            <a:off x="539640" y="2918880"/>
            <a:ext cx="8353440" cy="39387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are key words used in question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hould understand the meaning of the command words if they are to answer questions to the best of their ability</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ning of a command word sometimes depends on its context</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2):</a:t>
            </a:r>
            <a:br>
              <a:rPr sz="4000"/>
            </a:br>
            <a:r>
              <a:rPr b="0" lang="en-US" sz="4000" spc="-1" strike="noStrike">
                <a:solidFill>
                  <a:srgbClr val="74a5cd"/>
                </a:solidFill>
                <a:latin typeface="Arial"/>
              </a:rPr>
              <a:t>Analysing command words</a:t>
            </a:r>
            <a:endParaRPr b="0" lang="en-US" sz="4000" spc="-1" strike="noStrike">
              <a:solidFill>
                <a:srgbClr val="74a5cd"/>
              </a:solidFill>
              <a:latin typeface="Arial"/>
            </a:endParaRPr>
          </a:p>
        </p:txBody>
      </p:sp>
      <p:sp>
        <p:nvSpPr>
          <p:cNvPr id="116"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may require either concise answers or extended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may require either recall or making logical connections between pieces of informa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mmand words require only single word or single figure answ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1):</a:t>
            </a:r>
            <a:br>
              <a:rPr sz="4000"/>
            </a:br>
            <a:r>
              <a:rPr b="0" lang="en-US" sz="4000" spc="-1" strike="noStrike">
                <a:solidFill>
                  <a:srgbClr val="74a5cd"/>
                </a:solidFill>
                <a:latin typeface="Arial"/>
              </a:rPr>
              <a:t>Why have grade descriptions?</a:t>
            </a:r>
            <a:endParaRPr b="0" lang="en-US" sz="4000" spc="-1" strike="noStrike">
              <a:solidFill>
                <a:srgbClr val="74a5cd"/>
              </a:solidFill>
              <a:latin typeface="Arial"/>
            </a:endParaRPr>
          </a:p>
        </p:txBody>
      </p:sp>
      <p:sp>
        <p:nvSpPr>
          <p:cNvPr id="118" name="PlaceHolder 2"/>
          <p:cNvSpPr>
            <a:spLocks noGrp="1"/>
          </p:cNvSpPr>
          <p:nvPr>
            <p:ph/>
          </p:nvPr>
        </p:nvSpPr>
        <p:spPr>
          <a:xfrm>
            <a:off x="468000" y="2781000"/>
            <a:ext cx="8139240" cy="3870360"/>
          </a:xfrm>
          <a:prstGeom prst="rect">
            <a:avLst/>
          </a:prstGeom>
          <a:noFill/>
          <a:ln w="0">
            <a:noFill/>
          </a:ln>
        </p:spPr>
        <p:txBody>
          <a:bodyPr lIns="0" rIns="0" tIns="0" bIns="0" anchor="t">
            <a:normAutofit fontScale="97000"/>
          </a:bodyPr>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lear the level of performance required for different grades</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Examiners to set questions of the appropriate difficulty</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teachers assess the level of their students</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a basis for the descriptors for school based practic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2):</a:t>
            </a:r>
            <a:br>
              <a:rPr sz="4000"/>
            </a:br>
            <a:r>
              <a:rPr b="0" lang="en-US" sz="4000" spc="-1" strike="noStrike">
                <a:solidFill>
                  <a:srgbClr val="74a5cd"/>
                </a:solidFill>
                <a:latin typeface="Arial"/>
              </a:rPr>
              <a:t>Reading grade descriptions</a:t>
            </a:r>
            <a:endParaRPr b="0" lang="en-US" sz="4000" spc="-1" strike="noStrike">
              <a:solidFill>
                <a:srgbClr val="74a5cd"/>
              </a:solidFill>
              <a:latin typeface="Arial"/>
            </a:endParaRPr>
          </a:p>
        </p:txBody>
      </p:sp>
      <p:sp>
        <p:nvSpPr>
          <p:cNvPr id="120" name="PlaceHolder 2"/>
          <p:cNvSpPr>
            <a:spLocks noGrp="1"/>
          </p:cNvSpPr>
          <p:nvPr>
            <p:ph/>
          </p:nvPr>
        </p:nvSpPr>
        <p:spPr>
          <a:xfrm>
            <a:off x="46800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rade description has six strand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rand requires more linkage of facts going from grades F to A</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rand requires a greater extent of understanding and application of knowledge going from F 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1):</a:t>
            </a:r>
            <a:br>
              <a:rPr sz="3600"/>
            </a:br>
            <a:r>
              <a:rPr b="0" lang="en-US" sz="3600" spc="-1" strike="noStrike">
                <a:solidFill>
                  <a:srgbClr val="74a5cd"/>
                </a:solidFill>
                <a:latin typeface="Arial"/>
              </a:rPr>
              <a:t>Levels of marking</a:t>
            </a:r>
            <a:endParaRPr b="0" lang="en-US" sz="3600" spc="-1" strike="noStrike">
              <a:solidFill>
                <a:srgbClr val="74a5cd"/>
              </a:solidFill>
              <a:latin typeface="Arial"/>
            </a:endParaRPr>
          </a:p>
        </p:txBody>
      </p:sp>
      <p:sp>
        <p:nvSpPr>
          <p:cNvPr id="122" name="PlaceHolder 2"/>
          <p:cNvSpPr>
            <a:spLocks noGrp="1"/>
          </p:cNvSpPr>
          <p:nvPr>
            <p:ph/>
          </p:nvPr>
        </p:nvSpPr>
        <p:spPr>
          <a:xfrm>
            <a:off x="539280" y="2781000"/>
            <a:ext cx="8139240" cy="38703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ing of questions depends on the level of response required by the Examin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be modified to take into account the range of candidate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be altered to allow a wider or narrower range of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2):</a:t>
            </a:r>
            <a:br>
              <a:rPr sz="3600"/>
            </a:br>
            <a:r>
              <a:rPr b="0" lang="en-US" sz="3600" spc="-1" strike="noStrike">
                <a:solidFill>
                  <a:srgbClr val="74a5cd"/>
                </a:solidFill>
                <a:latin typeface="Arial"/>
              </a:rPr>
              <a:t>General strategies</a:t>
            </a:r>
            <a:endParaRPr b="0" lang="en-US" sz="3600" spc="-1" strike="noStrike">
              <a:solidFill>
                <a:srgbClr val="74a5cd"/>
              </a:solidFill>
              <a:latin typeface="Arial"/>
            </a:endParaRPr>
          </a:p>
        </p:txBody>
      </p:sp>
      <p:sp>
        <p:nvSpPr>
          <p:cNvPr id="124"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problems need to be solved:</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 answers which are correc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where the candidates have contradicted themselv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answers to a single ques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incorrect spell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3):</a:t>
            </a:r>
            <a:br>
              <a:rPr sz="3600"/>
            </a:br>
            <a:r>
              <a:rPr b="0" lang="en-US" sz="3600" spc="-1" strike="noStrike">
                <a:solidFill>
                  <a:srgbClr val="74a5cd"/>
                </a:solidFill>
                <a:latin typeface="Arial"/>
              </a:rPr>
              <a:t>Marking equations</a:t>
            </a:r>
            <a:endParaRPr b="0" lang="en-US" sz="3600" spc="-1" strike="noStrike">
              <a:solidFill>
                <a:srgbClr val="74a5cd"/>
              </a:solidFill>
              <a:latin typeface="Arial"/>
            </a:endParaRPr>
          </a:p>
        </p:txBody>
      </p:sp>
      <p:sp>
        <p:nvSpPr>
          <p:cNvPr id="126" name="PlaceHolder 2"/>
          <p:cNvSpPr>
            <a:spLocks noGrp="1"/>
          </p:cNvSpPr>
          <p:nvPr>
            <p:ph/>
          </p:nvPr>
        </p:nvSpPr>
        <p:spPr>
          <a:xfrm>
            <a:off x="611280" y="3055680"/>
            <a:ext cx="8138880" cy="38019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or symbol equa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equations with two available mark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equations with two marks – usually one marks for correct formulae and one mark for balance</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4):</a:t>
            </a:r>
            <a:br>
              <a:rPr sz="3600"/>
            </a:br>
            <a:r>
              <a:rPr b="0" lang="en-US" sz="3600" spc="-1" strike="noStrike">
                <a:solidFill>
                  <a:srgbClr val="74a5cd"/>
                </a:solidFill>
                <a:latin typeface="Arial"/>
              </a:rPr>
              <a:t>Multiple answer questions</a:t>
            </a:r>
            <a:endParaRPr b="0" lang="en-US" sz="3600" spc="-1" strike="noStrike">
              <a:solidFill>
                <a:srgbClr val="74a5cd"/>
              </a:solidFill>
              <a:latin typeface="Arial"/>
            </a:endParaRPr>
          </a:p>
        </p:txBody>
      </p:sp>
      <p:sp>
        <p:nvSpPr>
          <p:cNvPr id="128" name="PlaceHolder 2"/>
          <p:cNvSpPr>
            <a:spLocks noGrp="1"/>
          </p:cNvSpPr>
          <p:nvPr>
            <p:ph/>
          </p:nvPr>
        </p:nvSpPr>
        <p:spPr>
          <a:xfrm>
            <a:off x="611280" y="2708280"/>
            <a:ext cx="7632720" cy="3573360"/>
          </a:xfrm>
          <a:prstGeom prst="rect">
            <a:avLst/>
          </a:prstGeom>
          <a:noFill/>
          <a:ln w="0">
            <a:noFill/>
          </a:ln>
        </p:spPr>
        <p:txBody>
          <a:bodyPr lIns="0" rIns="0" tIns="0" bIns="0" anchor="t">
            <a:normAutofit fontScale="98000"/>
          </a:bodyPr>
          <a:p>
            <a:pPr marL="335880"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for discussion: ‘Choose </a:t>
            </a:r>
            <a:r>
              <a:rPr b="1" i="1" lang="en-US" sz="2400" spc="-1" strike="noStrike">
                <a:solidFill>
                  <a:srgbClr val="000000"/>
                </a:solidFill>
                <a:latin typeface="Arial"/>
              </a:rPr>
              <a:t>two</a:t>
            </a:r>
            <a:r>
              <a:rPr b="0" lang="en-US" sz="2400" spc="-1" strike="noStrike">
                <a:solidFill>
                  <a:srgbClr val="000000"/>
                </a:solidFill>
                <a:latin typeface="Arial"/>
              </a:rPr>
              <a:t> transition metals from the following list:                                                                                                                   aluminium, chromium, lead, potassium, vanadium’</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A answer: chromium, lead</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B answer: vanadium, lead, chromium</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C answer: vanadium, chromium, potassium</a:t>
            </a:r>
            <a:endParaRPr b="0" lang="en-US" sz="2400" spc="-1" strike="noStrike">
              <a:solidFill>
                <a:srgbClr val="000000"/>
              </a:solidFill>
              <a:latin typeface="Arial"/>
            </a:endParaRPr>
          </a:p>
          <a:p>
            <a:pPr marL="3358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5)</a:t>
            </a:r>
            <a:br>
              <a:rPr sz="3600"/>
            </a:br>
            <a:r>
              <a:rPr b="0" lang="en-US" sz="3600" spc="-1" strike="noStrike">
                <a:solidFill>
                  <a:srgbClr val="74a5cd"/>
                </a:solidFill>
                <a:latin typeface="Arial"/>
              </a:rPr>
              <a:t>Dependent answers</a:t>
            </a:r>
            <a:endParaRPr b="0" lang="en-US" sz="3600" spc="-1" strike="noStrike">
              <a:solidFill>
                <a:srgbClr val="74a5cd"/>
              </a:solidFill>
              <a:latin typeface="Arial"/>
            </a:endParaRPr>
          </a:p>
        </p:txBody>
      </p:sp>
      <p:sp>
        <p:nvSpPr>
          <p:cNvPr id="130" name="PlaceHolder 2"/>
          <p:cNvSpPr>
            <a:spLocks noGrp="1"/>
          </p:cNvSpPr>
          <p:nvPr>
            <p:ph/>
          </p:nvPr>
        </p:nvSpPr>
        <p:spPr>
          <a:xfrm>
            <a:off x="395280" y="2707920"/>
            <a:ext cx="8354880" cy="4041720"/>
          </a:xfrm>
          <a:prstGeom prst="rect">
            <a:avLst/>
          </a:prstGeom>
          <a:noFill/>
          <a:ln w="0">
            <a:noFill/>
          </a:ln>
        </p:spPr>
        <p:txBody>
          <a:bodyPr lIns="0" rIns="0" tIns="0" bIns="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e a test for chloride ions in the laboratory. Give the result of the test.</a:t>
            </a:r>
            <a:r>
              <a:rPr b="0" lang="en-US" sz="2400" spc="-1" strike="noStrike">
                <a:solidFill>
                  <a:srgbClr val="000000"/>
                </a:solidFill>
                <a:latin typeface="Arial"/>
              </a:rPr>
              <a:t> (2 marks)</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 to the chloride, we add acid and then silver nitrate. There is a whiteness seen.</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B: we add silver nitrate to the chloride after adding some hydrochloric acid to dissolve the solid. A white precipitate is seen.</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C: First add nitric acid to dissolve the chloride. Copper nitrate is then added to the chloride and a white precipitate is formed</a:t>
            </a:r>
            <a:r>
              <a:rPr b="0"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6):</a:t>
            </a:r>
            <a:br>
              <a:rPr sz="3600"/>
            </a:br>
            <a:r>
              <a:rPr b="0" lang="en-US" sz="3600" spc="-1" strike="noStrike">
                <a:solidFill>
                  <a:srgbClr val="74a5cd"/>
                </a:solidFill>
                <a:latin typeface="Arial"/>
              </a:rPr>
              <a:t>Questions involving longer explanations</a:t>
            </a:r>
            <a:endParaRPr b="0" lang="en-US" sz="3600" spc="-1" strike="noStrike">
              <a:solidFill>
                <a:srgbClr val="74a5cd"/>
              </a:solidFill>
              <a:latin typeface="Arial"/>
            </a:endParaRPr>
          </a:p>
        </p:txBody>
      </p:sp>
      <p:sp>
        <p:nvSpPr>
          <p:cNvPr id="132" name="PlaceHolder 2"/>
          <p:cNvSpPr>
            <a:spLocks noGrp="1"/>
          </p:cNvSpPr>
          <p:nvPr>
            <p:ph/>
          </p:nvPr>
        </p:nvSpPr>
        <p:spPr>
          <a:xfrm>
            <a:off x="539280" y="2923920"/>
            <a:ext cx="8139240" cy="373356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oints should be present – note form is acceptable</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should not contradict themselves</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matic explanations may gain candidates marks</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should not write much more than is required by the space available</a:t>
            </a:r>
            <a:endParaRPr b="0" lang="en-US" sz="3200" spc="-1" strike="noStrike">
              <a:solidFill>
                <a:srgbClr val="000000"/>
              </a:solidFill>
              <a:latin typeface="Arial"/>
            </a:endParaRPr>
          </a:p>
          <a:p>
            <a:pPr marL="343080" indent="0">
              <a:lnSpc>
                <a:spcPts val="36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1):</a:t>
            </a:r>
            <a:br>
              <a:rPr sz="3600"/>
            </a:br>
            <a:r>
              <a:rPr b="0" lang="en-US" sz="3600" spc="-1" strike="noStrike">
                <a:solidFill>
                  <a:srgbClr val="74a5cd"/>
                </a:solidFill>
                <a:latin typeface="Arial"/>
              </a:rPr>
              <a:t>General points</a:t>
            </a:r>
            <a:endParaRPr b="0" lang="en-US" sz="3600" spc="-1" strike="noStrike">
              <a:solidFill>
                <a:srgbClr val="74a5cd"/>
              </a:solidFill>
              <a:latin typeface="Arial"/>
            </a:endParaRPr>
          </a:p>
        </p:txBody>
      </p:sp>
      <p:sp>
        <p:nvSpPr>
          <p:cNvPr id="134" name="PlaceHolder 2"/>
          <p:cNvSpPr>
            <a:spLocks noGrp="1"/>
          </p:cNvSpPr>
          <p:nvPr>
            <p:ph/>
          </p:nvPr>
        </p:nvSpPr>
        <p:spPr>
          <a:xfrm>
            <a:off x="684360" y="2924280"/>
            <a:ext cx="7632720" cy="430200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shoul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concise answers in note form</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clearly (on separate lines where necessary) where the marks were award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the range of acceptable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 unacceptable answers</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2):</a:t>
            </a:r>
            <a:br>
              <a:rPr sz="3600"/>
            </a:br>
            <a:r>
              <a:rPr b="0" lang="en-US" sz="3600" spc="-1" strike="noStrike">
                <a:solidFill>
                  <a:srgbClr val="74a5cd"/>
                </a:solidFill>
                <a:latin typeface="Arial"/>
              </a:rPr>
              <a:t>Making a mark scheme</a:t>
            </a:r>
            <a:endParaRPr b="0" lang="en-US" sz="3600" spc="-1" strike="noStrike">
              <a:solidFill>
                <a:srgbClr val="74a5cd"/>
              </a:solidFill>
              <a:latin typeface="Arial"/>
            </a:endParaRPr>
          </a:p>
        </p:txBody>
      </p:sp>
      <p:sp>
        <p:nvSpPr>
          <p:cNvPr id="136" name="PlaceHolder 2"/>
          <p:cNvSpPr>
            <a:spLocks noGrp="1"/>
          </p:cNvSpPr>
          <p:nvPr>
            <p:ph/>
          </p:nvPr>
        </p:nvSpPr>
        <p:spPr>
          <a:xfrm>
            <a:off x="468000" y="2556000"/>
            <a:ext cx="8064360" cy="4302000"/>
          </a:xfrm>
          <a:prstGeom prst="rect">
            <a:avLst/>
          </a:prstGeom>
          <a:noFill/>
          <a:ln w="0">
            <a:noFill/>
          </a:ln>
        </p:spPr>
        <p:txBody>
          <a:bodyPr lIns="0" rIns="0" tIns="0" bIns="0" anchor="t">
            <a:normAutofit/>
          </a:bodyPr>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own time construct a mark scheme</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question you have been given.</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ach part of the question:</a:t>
            </a:r>
            <a:endParaRPr b="0" lang="en-US" sz="3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de the number of marks you are going to give</a:t>
            </a:r>
            <a:endParaRPr b="0" lang="en-US" sz="2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as briefly as possible the answers you will allow</a:t>
            </a:r>
            <a:endParaRPr b="0" lang="en-US" sz="2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down what answers you will not accep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3):</a:t>
            </a:r>
            <a:br>
              <a:rPr sz="3600"/>
            </a:br>
            <a:r>
              <a:rPr b="0" lang="en-US" sz="3600" spc="-1" strike="noStrike">
                <a:solidFill>
                  <a:srgbClr val="74a5cd"/>
                </a:solidFill>
                <a:latin typeface="Arial"/>
              </a:rPr>
              <a:t>Reviewing the mark scheme</a:t>
            </a:r>
            <a:endParaRPr b="0" lang="en-US" sz="3600" spc="-1" strike="noStrike">
              <a:solidFill>
                <a:srgbClr val="74a5cd"/>
              </a:solidFill>
              <a:latin typeface="Arial"/>
            </a:endParaRPr>
          </a:p>
        </p:txBody>
      </p:sp>
      <p:sp>
        <p:nvSpPr>
          <p:cNvPr id="138" name="PlaceHolder 2"/>
          <p:cNvSpPr>
            <a:spLocks noGrp="1"/>
          </p:cNvSpPr>
          <p:nvPr>
            <p:ph/>
          </p:nvPr>
        </p:nvSpPr>
        <p:spPr>
          <a:xfrm>
            <a:off x="539280" y="2852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ark scheme you constructed to mark the candidates’ response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number of marks given adequate for each par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eading the candidate responses will you change or modify your mark schem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4):</a:t>
            </a:r>
            <a:br>
              <a:rPr sz="3600"/>
            </a:br>
            <a:r>
              <a:rPr b="0" lang="en-US" sz="3600" spc="-1" strike="noStrike">
                <a:solidFill>
                  <a:srgbClr val="74a5cd"/>
                </a:solidFill>
                <a:latin typeface="Arial"/>
              </a:rPr>
              <a:t>A suggested final mark scheme (1)</a:t>
            </a:r>
            <a:endParaRPr b="0" lang="en-US" sz="3600" spc="-1" strike="noStrike">
              <a:solidFill>
                <a:srgbClr val="74a5cd"/>
              </a:solidFill>
              <a:latin typeface="Arial"/>
            </a:endParaRPr>
          </a:p>
        </p:txBody>
      </p:sp>
      <p:sp>
        <p:nvSpPr>
          <p:cNvPr id="140" name="PlaceHolder 2"/>
          <p:cNvSpPr>
            <a:spLocks noGrp="1"/>
          </p:cNvSpPr>
          <p:nvPr>
            <p:ph/>
          </p:nvPr>
        </p:nvSpPr>
        <p:spPr>
          <a:xfrm>
            <a:off x="539280" y="2997360"/>
            <a:ext cx="8139240" cy="4006800"/>
          </a:xfrm>
          <a:prstGeom prst="rect">
            <a:avLst/>
          </a:prstGeom>
          <a:noFill/>
          <a:ln w="0">
            <a:noFill/>
          </a:ln>
        </p:spPr>
        <p:txBody>
          <a:bodyPr lIns="0" rIns="0" tIns="0" bIns="0" anchor="t">
            <a:normAutofit fontScale="96000"/>
          </a:bodyPr>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Any 3 suitable observations that can be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N                                                   [3]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s on water/ moves about/ bursts into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ame/ fizzes OR bubbles/ disappears/ goes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o a ball</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es about on surface =2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GNORE: reference to flame colour</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gas produced/ smoke/ fumes/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reacts violently</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4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5):</a:t>
            </a:r>
            <a:br>
              <a:rPr sz="3600"/>
            </a:br>
            <a:r>
              <a:rPr b="0" lang="en-US" sz="3600" spc="-1" strike="noStrike">
                <a:solidFill>
                  <a:srgbClr val="74a5cd"/>
                </a:solidFill>
                <a:latin typeface="Arial"/>
              </a:rPr>
              <a:t>A suggested final mark scheme (2)</a:t>
            </a:r>
            <a:endParaRPr b="0" lang="en-US" sz="3600" spc="-1" strike="noStrike">
              <a:solidFill>
                <a:srgbClr val="74a5cd"/>
              </a:solidFill>
              <a:latin typeface="Arial"/>
            </a:endParaRPr>
          </a:p>
        </p:txBody>
      </p:sp>
      <p:sp>
        <p:nvSpPr>
          <p:cNvPr id="142"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 900-1100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000000"/>
                </a:solidFill>
                <a:uFillTx/>
                <a:latin typeface="Arial"/>
              </a:rPr>
              <a:t>very</a:t>
            </a:r>
            <a:r>
              <a:rPr b="0" lang="en-GB" sz="2400" spc="-1" strike="noStrike">
                <a:solidFill>
                  <a:srgbClr val="000000"/>
                </a:solidFill>
                <a:latin typeface="Arial"/>
              </a:rPr>
              <a:t> rapid reaction/ </a:t>
            </a:r>
            <a:r>
              <a:rPr b="0" lang="en-GB" sz="2400" spc="-1" strike="noStrike" u="sng">
                <a:solidFill>
                  <a:srgbClr val="000000"/>
                </a:solidFill>
                <a:uFillTx/>
                <a:latin typeface="Arial"/>
              </a:rPr>
              <a:t>very</a:t>
            </a:r>
            <a:r>
              <a:rPr b="0" lang="en-GB" sz="2400" spc="-1" strike="noStrike">
                <a:solidFill>
                  <a:srgbClr val="000000"/>
                </a:solidFill>
                <a:latin typeface="Arial"/>
              </a:rPr>
              <a:t> vigorous reaction</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OW: faster/ fastest/ violent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8.1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i) white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ecipitate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6):</a:t>
            </a:r>
            <a:br>
              <a:rPr sz="3600"/>
            </a:br>
            <a:r>
              <a:rPr b="0" lang="en-US" sz="3600" spc="-1" strike="noStrike">
                <a:solidFill>
                  <a:srgbClr val="74a5cd"/>
                </a:solidFill>
                <a:latin typeface="Arial"/>
              </a:rPr>
              <a:t>A suggested final mark scheme (3)</a:t>
            </a:r>
            <a:endParaRPr b="0" lang="en-US" sz="3600" spc="-1" strike="noStrike">
              <a:solidFill>
                <a:srgbClr val="74a5cd"/>
              </a:solidFill>
              <a:latin typeface="Arial"/>
            </a:endParaRPr>
          </a:p>
        </p:txBody>
      </p:sp>
      <p:sp>
        <p:nvSpPr>
          <p:cNvPr id="144" name="PlaceHolder 2"/>
          <p:cNvSpPr>
            <a:spLocks noGrp="1"/>
          </p:cNvSpPr>
          <p:nvPr>
            <p:ph/>
          </p:nvPr>
        </p:nvSpPr>
        <p:spPr>
          <a:xfrm>
            <a:off x="539280" y="2992320"/>
            <a:ext cx="8139240" cy="3865680"/>
          </a:xfrm>
          <a:prstGeom prst="rect">
            <a:avLst/>
          </a:prstGeom>
          <a:noFill/>
          <a:ln w="0">
            <a:noFill/>
          </a:ln>
        </p:spPr>
        <p:txBody>
          <a:bodyPr lIns="0" rIns="0" tIns="0" bIns="0" anchor="t">
            <a:normAutofit/>
          </a:bodyPr>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ii) ions can’t  </a:t>
            </a:r>
            <a:r>
              <a:rPr b="0" lang="en-GB" sz="2400" spc="-1" strike="noStrike" u="sng">
                <a:solidFill>
                  <a:srgbClr val="000000"/>
                </a:solidFill>
                <a:uFillTx/>
                <a:latin typeface="Arial"/>
              </a:rPr>
              <a:t>move </a:t>
            </a:r>
            <a:r>
              <a:rPr b="0" lang="en-GB" sz="2400" spc="-1" strike="noStrike">
                <a:solidFill>
                  <a:srgbClr val="000000"/>
                </a:solidFill>
                <a:latin typeface="Arial"/>
              </a:rPr>
              <a:t>in solid             [1]</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ons free to </a:t>
            </a:r>
            <a:r>
              <a:rPr b="0" lang="en-GB" sz="2400" spc="-1" strike="noStrike" u="sng">
                <a:solidFill>
                  <a:srgbClr val="000000"/>
                </a:solidFill>
                <a:uFillTx/>
                <a:latin typeface="Arial"/>
              </a:rPr>
              <a:t>move</a:t>
            </a:r>
            <a:r>
              <a:rPr b="0" lang="en-GB" sz="2400" spc="-1" strike="noStrike">
                <a:solidFill>
                  <a:srgbClr val="000000"/>
                </a:solidFill>
                <a:latin typeface="Arial"/>
              </a:rPr>
              <a:t> in solution      [1]</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ons free to move only in solution = 2</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charges don’t move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electrons don’t move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no free ions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4919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2</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539280" y="2420640"/>
            <a:ext cx="813924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question papers are set</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t>
            </a:r>
            <a:r>
              <a:rPr b="0" lang="en-US" sz="3200" spc="-1" strike="noStrike">
                <a:solidFill>
                  <a:srgbClr val="000000"/>
                </a:solidFill>
                <a:latin typeface="Arial"/>
              </a:rPr>
              <a:t>he construction of ques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descrip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ategies for marking ques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candidates scripts and creating mark schemes</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1):</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2" name="PlaceHolder 2"/>
          <p:cNvSpPr>
            <a:spLocks noGrp="1"/>
          </p:cNvSpPr>
          <p:nvPr>
            <p:ph/>
          </p:nvPr>
        </p:nvSpPr>
        <p:spPr>
          <a:xfrm>
            <a:off x="395280" y="2815920"/>
            <a:ext cx="8424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re set with reference to the three assessment objectiv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recall in Papers 2 &amp; 3 is generally no more than about 30%</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2):</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4" name="PlaceHolder 2"/>
          <p:cNvSpPr>
            <a:spLocks noGrp="1"/>
          </p:cNvSpPr>
          <p:nvPr>
            <p:ph/>
          </p:nvPr>
        </p:nvSpPr>
        <p:spPr>
          <a:xfrm>
            <a:off x="395280" y="2276280"/>
            <a:ext cx="8424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centage of recall in a paper is generally greater in Paper 2 than in Paper 3</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involving practical application, interpretation and evaluation also form a part of Papers 2 &amp; 3 </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3):</a:t>
            </a:r>
            <a:br>
              <a:rPr sz="4000"/>
            </a:br>
            <a:r>
              <a:rPr b="0" lang="en-US" sz="4000" spc="-1" strike="noStrike">
                <a:solidFill>
                  <a:srgbClr val="74a5cd"/>
                </a:solidFill>
                <a:latin typeface="Arial"/>
              </a:rPr>
              <a:t>Levels of difficulty</a:t>
            </a:r>
            <a:endParaRPr b="0" lang="en-US" sz="4000" spc="-1" strike="noStrike">
              <a:solidFill>
                <a:srgbClr val="74a5cd"/>
              </a:solidFill>
              <a:latin typeface="Arial"/>
            </a:endParaRPr>
          </a:p>
        </p:txBody>
      </p:sp>
      <p:sp>
        <p:nvSpPr>
          <p:cNvPr id="106" name="PlaceHolder 2"/>
          <p:cNvSpPr>
            <a:spLocks noGrp="1"/>
          </p:cNvSpPr>
          <p:nvPr>
            <p:ph/>
          </p:nvPr>
        </p:nvSpPr>
        <p:spPr>
          <a:xfrm>
            <a:off x="499680" y="2460240"/>
            <a:ext cx="831996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re written so that each follows a logical patter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r parts of questions may give key information for use later on in a question</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4):</a:t>
            </a:r>
            <a:br>
              <a:rPr sz="4000"/>
            </a:br>
            <a:r>
              <a:rPr b="0" lang="en-US" sz="4000" spc="-1" strike="noStrike">
                <a:solidFill>
                  <a:srgbClr val="74a5cd"/>
                </a:solidFill>
                <a:latin typeface="Arial"/>
              </a:rPr>
              <a:t>Levels of difficulty</a:t>
            </a:r>
            <a:endParaRPr b="0" lang="en-US" sz="4000" spc="-1" strike="noStrike">
              <a:solidFill>
                <a:srgbClr val="74a5cd"/>
              </a:solidFill>
              <a:latin typeface="Arial"/>
            </a:endParaRPr>
          </a:p>
        </p:txBody>
      </p:sp>
      <p:sp>
        <p:nvSpPr>
          <p:cNvPr id="108" name="PlaceHolder 2"/>
          <p:cNvSpPr>
            <a:spLocks noGrp="1"/>
          </p:cNvSpPr>
          <p:nvPr>
            <p:ph/>
          </p:nvPr>
        </p:nvSpPr>
        <p:spPr>
          <a:xfrm>
            <a:off x="499680" y="2460240"/>
            <a:ext cx="831996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easier questions are put at the beginning of a paper</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a given question there is often a gradation of increasing difficulty towards the end of the question</a:t>
            </a: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5):</a:t>
            </a:r>
            <a:br>
              <a:rPr sz="4000"/>
            </a:br>
            <a:r>
              <a:rPr b="0" lang="en-US" sz="4000" spc="-1" strike="noStrike">
                <a:solidFill>
                  <a:srgbClr val="74a5cd"/>
                </a:solidFill>
                <a:latin typeface="Arial"/>
              </a:rPr>
              <a:t>Mark schemes</a:t>
            </a:r>
            <a:endParaRPr b="0" lang="en-US" sz="4000" spc="-1" strike="noStrike">
              <a:solidFill>
                <a:srgbClr val="74a5cd"/>
              </a:solidFill>
              <a:latin typeface="Arial"/>
            </a:endParaRPr>
          </a:p>
        </p:txBody>
      </p:sp>
      <p:sp>
        <p:nvSpPr>
          <p:cNvPr id="110" name="PlaceHolder 2"/>
          <p:cNvSpPr>
            <a:spLocks noGrp="1"/>
          </p:cNvSpPr>
          <p:nvPr>
            <p:ph/>
          </p:nvPr>
        </p:nvSpPr>
        <p:spPr>
          <a:xfrm>
            <a:off x="468000" y="2636640"/>
            <a:ext cx="8280360" cy="4041720"/>
          </a:xfrm>
          <a:prstGeom prst="rect">
            <a:avLst/>
          </a:prstGeom>
          <a:noFill/>
          <a:ln w="0">
            <a:noFill/>
          </a:ln>
        </p:spPr>
        <p:txBody>
          <a:bodyPr lIns="0" rIns="0" tIns="0" bIns="0" anchor="t">
            <a:normAutofit fontScale="99000"/>
          </a:bodyPr>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can be related to the grade descriptions as well as to the syllabus content</a:t>
            </a:r>
            <a:endParaRPr b="0" lang="en-US" sz="32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ssessment objectives are more likely to access higher grades than others</a:t>
            </a:r>
            <a:endParaRPr b="0" lang="en-US" sz="32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for a particular question may be amended to take account of candidates’ answers</a:t>
            </a:r>
            <a:endParaRPr b="0" lang="en-US" sz="32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6):</a:t>
            </a:r>
            <a:br>
              <a:rPr sz="4000"/>
            </a:br>
            <a:r>
              <a:rPr b="0" lang="en-US" sz="4000" spc="-1" strike="noStrike">
                <a:solidFill>
                  <a:srgbClr val="74a5cd"/>
                </a:solidFill>
                <a:latin typeface="Arial"/>
              </a:rPr>
              <a:t>Setting questions in context</a:t>
            </a:r>
            <a:endParaRPr b="0" lang="en-US" sz="4000" spc="-1" strike="noStrike">
              <a:solidFill>
                <a:srgbClr val="74a5cd"/>
              </a:solidFill>
              <a:latin typeface="Arial"/>
            </a:endParaRPr>
          </a:p>
        </p:txBody>
      </p:sp>
      <p:sp>
        <p:nvSpPr>
          <p:cNvPr id="112" name="PlaceHolder 2"/>
          <p:cNvSpPr>
            <a:spLocks noGrp="1"/>
          </p:cNvSpPr>
          <p:nvPr>
            <p:ph/>
          </p:nvPr>
        </p:nvSpPr>
        <p:spPr>
          <a:xfrm>
            <a:off x="539640" y="2634840"/>
            <a:ext cx="8353440" cy="4041720"/>
          </a:xfrm>
          <a:prstGeom prst="rect">
            <a:avLst/>
          </a:prstGeom>
          <a:noFill/>
          <a:ln w="0">
            <a:noFill/>
          </a:ln>
        </p:spPr>
        <p:txBody>
          <a:bodyPr lIns="0" rIns="0" tIns="0" bIns="0" anchor="t">
            <a:normAutofit fontScale="99000"/>
          </a:bodyPr>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questions in context:</a:t>
            </a:r>
            <a:endParaRPr b="0" lang="en-US" sz="28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their difficulty</a:t>
            </a:r>
            <a:endParaRPr b="0" lang="en-US" sz="28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assessment of:</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applications</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and environmental applications of chemistry</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ndidate’s ability to think logically when confronted with a novel situation </a:t>
            </a:r>
            <a:endParaRPr b="0" lang="en-US" sz="2800" spc="-1" strike="noStrike">
              <a:solidFill>
                <a:srgbClr val="000000"/>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9T20:25:16Z</dcterms:modified>
  <cp:revision>15</cp:revision>
  <dc:subject/>
  <dc:title>Main Powerpoint title</dc:title>
</cp:coreProperties>
</file>