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96D6-84F5-4F0B-8F9F-A5FB8C4AB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ession 3 will cover resources available via CIE and how they can be used to help studen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72C0-581B-449D-B5A6-A8747E9CA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E Teacher Support website includes Schemes of Work for most subjects, including IGCSE Biology. The schemes of work are being continuously updated. The 10 unit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ells and Cell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nimal Nutr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lant Nutrition and Transp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spiration and the Human Transport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ordination, Response and Homeost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roduction in Pla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uman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heritance and Evolu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Organisms and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Human Influences on the Environ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nit has examples of past examination questions associated with it. The questions on the site may be modified to make your own tests by cutting and pas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nits also contain online test material. Simulations are also available with the schemes of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8EAC-A0FF-403E-8811-0D4E05E81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booklet and Specimen papers are a good starting point for teachers new to the syllabus and give a good overview of style, format and what is required in the way of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resource containing past exam questions and mark schemes is the ‘IGCSE Biology Toolkit</a:t>
            </a:r>
            <a:r>
              <a:rPr b="0" i="1" lang="en-US" sz="1200" spc="-1" strike="noStrike">
                <a:solidFill>
                  <a:srgbClr val="000000"/>
                </a:solidFill>
                <a:latin typeface="Arial"/>
              </a:rPr>
              <a:t> </a:t>
            </a:r>
            <a:r>
              <a:rPr b="0" lang="en-US" sz="1200" spc="-1" strike="noStrike">
                <a:solidFill>
                  <a:srgbClr val="000000"/>
                </a:solidFill>
                <a:latin typeface="Arial"/>
              </a:rPr>
              <a:t>CD’. The CD was developed specifically for teachers as a took for quick and easy creation of mock exams and revision purposes. Key features include full search on words, phrases or syllabus topics in past papers; ability to copy and paste questions and mark schemes to enable creation of papers; individual questions linked to the corresponding answer in the mark scheme; questions tagged with syllabus topic to enable quick and easy creation of themed material. The CD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books have been endorsed for use with the IGCSE Biology. They are listed on the www.cie.org.uk web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let Teaching and Assessing Skills in Practical Science focuses on practical skills because this is the area of the science curriculum that poses greatest challenges to teachers and students. Written by an experienced teacher and Examiner, it includes lots of practical tips and advice. Published in CIE’s series ‘Cambridge Professional Development for Teachers’. The book can be ordered from CIE Publica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9909-B3A4-4214-87F6-3AC51519E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Planning for Practical Science in Secondary Schools’ is a booklet for laboratory technicians and Heads of Science. It covers issues such as planning laboratory accommodation, setting up and resourcing the laboratory and preparation room, and the apparatus needed for each of the sciences. The booklet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ioscope CD-ROM is a biological microscope simulation. It includes 56 slide sets of plant and animal specimens. Paper-based tasks in Word and PDF accompany the CD. It is available from C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list: IGCSE Biology pages of the CIE public website includes a list of all material that can be used for teaching IGCSE Biology, including books, websites and multimedia material. The list is updated as and when new material is published. It is well worth referring to this list.</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US" sz="1200" spc="-1" strike="noStrike">
                <a:solidFill>
                  <a:srgbClr val="000000"/>
                </a:solidFill>
                <a:latin typeface="Arial"/>
              </a:rPr>
              <a:t> For example,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1D87-16CC-4E76-98EC-9360295AB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 delegates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hus helping to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325C-98C9-49B7-A64A-4160C788E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main point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89B3-A906-4B27-9626-4DB7C5BE0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gates may have already covered this in Session 2, in which case you can move quickly on from this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the mark schemes for past papers are available on the CIE teacher support site – http://www.teachers.cie.org.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mark schemes are brief summaries of what the examining team consider to be acceptable. They are developed through considerable discussion between the Principal Examiner and his/ her te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imilar questions are asked in future years, the mark schemes for them will also be similar.The range of acceptable and unacceptable answers should also be studied, since these often recur year after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 Examiners give credit to scientifically correct and fully relevant answers even though they may not appear on the mark sc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chemes also give information about how the Examiners interpret the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8A32-88D7-4F3B-AF65-B9433BFA6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be given an Examiner’s Report for a question paper they have in front of them. Remind teachers that the Examiner Reports for past papers are available at http://www.teachers.cie.org.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in order to get the best benefit from the Examiner Reports, they should be studied in tandem with the question paper and the mark scheme. Teachers may find it useful to download these documents from the CIE Teacher Support website and look at them side by side. </a:t>
            </a:r>
            <a:r>
              <a:rPr b="0" i="1" lang="en-US" sz="1200" spc="-1" strike="noStrike">
                <a:solidFill>
                  <a:srgbClr val="000000"/>
                </a:solidFill>
                <a:latin typeface="Arial"/>
              </a:rPr>
              <a:t>Reasons</a:t>
            </a:r>
            <a:r>
              <a:rPr b="0" lang="en-US" sz="1200" spc="-1" strike="noStrike">
                <a:solidFill>
                  <a:srgbClr val="000000"/>
                </a:solidFill>
                <a:latin typeface="Arial"/>
              </a:rPr>
              <a:t> for the rejection of some answers are often given in the Examiner Reports and </a:t>
            </a:r>
            <a:r>
              <a:rPr b="0" i="1" lang="en-US" sz="1200" spc="-1" strike="noStrike">
                <a:solidFill>
                  <a:srgbClr val="000000"/>
                </a:solidFill>
                <a:latin typeface="Arial"/>
              </a:rPr>
              <a:t>common misconceptions </a:t>
            </a:r>
            <a:r>
              <a:rPr b="0" lang="en-US" sz="1200" spc="-1" strike="noStrike">
                <a:solidFill>
                  <a:srgbClr val="000000"/>
                </a:solidFill>
                <a:latin typeface="Arial"/>
              </a:rPr>
              <a:t>are commented on. It is often useful to make a note of these and try to integrate these points into teaching pla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range of unacceptable answers for specific questions is commented on in the mark scheme, the Examiner Reports may give information about which of these incorrect answers are most frequ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C28E-D61D-49C7-894E-F788B9047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ather lengthy exercise which may best be done as ‘homework’ by the delegates. Alternatively, just one or two of the questions could be marked in the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5(a) - Examples of mark schemes and candidates’ scripts - contains answers provided by two candidates to questions 2 and 3 on Paper 0610/3 June 2003, together with the mark scheme for these question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5(b) - Examples of mark schemes and candidates’ scripts - contains answers provided by two candidates to questions 1 and 4 on Paper 0610/6 June 2003, together with the mark scheme for these question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5(c) - Marks awarded to scripts on Handout 3.5(a) and Handout 3.5(b) - shows the marks awarded by CIE Examin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BD25-ADD4-4984-8B30-1A391A37D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gates should have access to a copy of the Principal Examiner Report for June 2003. (Download this if necess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purpose of the Examiner Reports is to explain to teachers where the candidates have failed to achieve their marks and to highlight errors. Many of these errors have persisted over a number of years and these need to be addressed by teac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may also be given about the level of difficulty of the question by reference to the approximate proportion of candidates achieving certain 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is also given about the range of acceptable answers encountered. Sometimes reasons for why these answers are acceptable or not are given. Answers to numerical problems are also giv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ime, delegates should study the Examiner Report for Papers 2 and 3 for the June 2003 session and answer the questions on Handout 3.6 (</a:t>
            </a:r>
            <a:r>
              <a:rPr b="0" i="1" lang="en-US" sz="1200" spc="-1" strike="noStrike">
                <a:solidFill>
                  <a:srgbClr val="000000"/>
                </a:solidFill>
                <a:latin typeface="Arial"/>
              </a:rPr>
              <a:t>Identifying Student Error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xaminer Reports also provide general comments of a constructive nature regarding paperwork and concerns about the practical papers (especially the coursework compon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C274-CCEA-4637-B5EA-1B450945C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slide lists the questions on Handout 3.6. You could use it as a focus for a discussion of their findings if the delegates have been able to do the analysis on this hand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ways in which teachers can use Examiner Reports to improve student performance by identifying the areas where students make common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C744-A324-4FED-8A5E-B69DD0663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if the Examiner Reports are studied over a number of years, some common misconceptions and areas of difficulty will be highlighted. Teachers can then use this information to enable them to improve or modify their teaching. There are several ways by which this can be don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list of the common misconceptions over the past few years and integrate these into the scheme of 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list of common misconceptions during examination revision sessions. This is especially useful where information extraction from tables and diagrams are involv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could be asked to study the Examiner Report they have in front of them and find out where the Principal Examiner has drawn attention to recurring misconcep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060640"/>
            <a:ext cx="7991280" cy="93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br>
              <a:rPr sz="4800"/>
            </a:br>
            <a:br>
              <a:rPr sz="4800"/>
            </a:br>
            <a:endParaRPr b="0" lang="en-US" sz="4800" spc="-1" strike="noStrike">
              <a:solidFill>
                <a:srgbClr val="000000"/>
              </a:solidFill>
              <a:latin typeface="Arial"/>
            </a:endParaRPr>
          </a:p>
        </p:txBody>
      </p:sp>
      <p:sp>
        <p:nvSpPr>
          <p:cNvPr id="96" name="PlaceHolder 2"/>
          <p:cNvSpPr>
            <a:spLocks noGrp="1"/>
          </p:cNvSpPr>
          <p:nvPr>
            <p:ph type="subTitle"/>
          </p:nvPr>
        </p:nvSpPr>
        <p:spPr>
          <a:xfrm>
            <a:off x="250920" y="3357720"/>
            <a:ext cx="8208720" cy="2286000"/>
          </a:xfrm>
          <a:prstGeom prst="rect">
            <a:avLst/>
          </a:prstGeom>
          <a:noFill/>
          <a:ln w="0">
            <a:noFill/>
          </a:ln>
        </p:spPr>
        <p:txBody>
          <a:bodyPr lIns="0" rIns="0" tIns="0" bIns="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Biology 061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3: Mark schemes and Examiners Reports</a:t>
            </a:r>
            <a:endParaRPr b="0" lang="en-US" sz="2800" spc="-1" strike="noStrike">
              <a:solidFill>
                <a:srgbClr val="000000"/>
              </a:solidFill>
              <a:latin typeface="Arial"/>
            </a:endParaRPr>
          </a:p>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134100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1):</a:t>
            </a:r>
            <a:br>
              <a:rPr sz="4000"/>
            </a:br>
            <a:r>
              <a:rPr b="0" lang="en-US" sz="4000" spc="-1" strike="noStrike">
                <a:solidFill>
                  <a:srgbClr val="74a5cd"/>
                </a:solidFill>
                <a:latin typeface="Arial"/>
              </a:rPr>
              <a:t>Schemes of work and tests</a:t>
            </a:r>
            <a:endParaRPr b="0" lang="en-US" sz="4000" spc="-1" strike="noStrike">
              <a:solidFill>
                <a:srgbClr val="74a5cd"/>
              </a:solidFill>
              <a:latin typeface="Arial"/>
            </a:endParaRPr>
          </a:p>
        </p:txBody>
      </p:sp>
      <p:sp>
        <p:nvSpPr>
          <p:cNvPr id="114" name="PlaceHolder 2"/>
          <p:cNvSpPr>
            <a:spLocks noGrp="1"/>
          </p:cNvSpPr>
          <p:nvPr>
            <p:ph/>
          </p:nvPr>
        </p:nvSpPr>
        <p:spPr>
          <a:xfrm>
            <a:off x="468000" y="278100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eme of work has 10 units providing ideas about how you might teach the syllabu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ach unit may also contain:</a:t>
            </a:r>
            <a:endParaRPr b="0" lang="en-US" sz="3200" spc="-1" strike="noStrike">
              <a:solidFill>
                <a:srgbClr val="000000"/>
              </a:solidFill>
              <a:latin typeface="Arial"/>
            </a:endParaRPr>
          </a:p>
          <a:p>
            <a:pPr lvl="1" marL="743040" indent="-28584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lvl="1" marL="743040" indent="-28584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tests</a:t>
            </a:r>
            <a:endParaRPr b="0" lang="en-US" sz="3200" spc="-1" strike="noStrike">
              <a:solidFill>
                <a:srgbClr val="000000"/>
              </a:solidFill>
              <a:latin typeface="Arial"/>
            </a:endParaRPr>
          </a:p>
          <a:p>
            <a:pPr lvl="1" marL="743040" indent="-28584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and simulation n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1413000"/>
            <a:ext cx="813888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2): Other resources recommended by CIE</a:t>
            </a:r>
            <a:endParaRPr b="0" lang="en-US" sz="4000" spc="-1" strike="noStrike">
              <a:solidFill>
                <a:srgbClr val="74a5cd"/>
              </a:solidFill>
              <a:latin typeface="Arial"/>
            </a:endParaRPr>
          </a:p>
        </p:txBody>
      </p:sp>
      <p:sp>
        <p:nvSpPr>
          <p:cNvPr id="116"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bookle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pecimen pape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GCSE Biology Past Papers on CD Toolkit</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GCSE Biology endorsed textbook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aching and Assessing Skills in Practical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Additional resources (3): Other resources recommended by CIE</a:t>
            </a:r>
            <a:endParaRPr b="0" lang="en-US" sz="4000" spc="-1" strike="noStrike">
              <a:solidFill>
                <a:srgbClr val="74a5cd"/>
              </a:solidFill>
              <a:latin typeface="Arial"/>
            </a:endParaRPr>
          </a:p>
        </p:txBody>
      </p:sp>
      <p:sp>
        <p:nvSpPr>
          <p:cNvPr id="118" name="PlaceHolder 2"/>
          <p:cNvSpPr>
            <a:spLocks noGrp="1"/>
          </p:cNvSpPr>
          <p:nvPr>
            <p:ph/>
          </p:nvPr>
        </p:nvSpPr>
        <p:spPr>
          <a:xfrm>
            <a:off x="499680" y="2460240"/>
            <a:ext cx="8139240" cy="404172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for Practical Science in Secondary Schools</a:t>
            </a:r>
            <a:endParaRPr b="0" lang="en-US" sz="3200" spc="-1" strike="noStrike">
              <a:solidFill>
                <a:srgbClr val="000000"/>
              </a:solidFill>
              <a:latin typeface="Arial"/>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Bioscope CD-ROM</a:t>
            </a:r>
            <a:endParaRPr b="0" lang="en-US" sz="3200" spc="-1" strike="noStrike">
              <a:solidFill>
                <a:srgbClr val="000000"/>
              </a:solidFill>
              <a:latin typeface="Arial"/>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Resource lists</a:t>
            </a:r>
            <a:endParaRPr b="0" lang="en-US" sz="3200" spc="-1" strike="noStrike">
              <a:solidFill>
                <a:srgbClr val="000000"/>
              </a:solidFill>
              <a:latin typeface="Arial"/>
            </a:endParaRPr>
          </a:p>
          <a:p>
            <a:pPr marL="343080" indent="0">
              <a:lnSpc>
                <a:spcPts val="47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3</a:t>
            </a:r>
            <a:r>
              <a:rPr b="0" lang="en-GB" sz="4000" spc="-1" strike="noStrike">
                <a:solidFill>
                  <a:srgbClr val="74a5cd"/>
                </a:solidFill>
                <a:latin typeface="Arial"/>
              </a:rPr>
              <a:t> looks at:</a:t>
            </a:r>
            <a:endParaRPr b="0" lang="en-US" sz="4000" spc="-1" strike="noStrike">
              <a:solidFill>
                <a:srgbClr val="74a5cd"/>
              </a:solidFill>
              <a:latin typeface="Arial"/>
            </a:endParaRPr>
          </a:p>
        </p:txBody>
      </p:sp>
      <p:sp>
        <p:nvSpPr>
          <p:cNvPr id="100" name="PlaceHolder 2"/>
          <p:cNvSpPr>
            <a:spLocks noGrp="1"/>
          </p:cNvSpPr>
          <p:nvPr>
            <p:ph/>
          </p:nvPr>
        </p:nvSpPr>
        <p:spPr>
          <a:xfrm>
            <a:off x="499680" y="2460240"/>
            <a:ext cx="8139240" cy="4041720"/>
          </a:xfrm>
          <a:prstGeom prst="rect">
            <a:avLst/>
          </a:prstGeom>
          <a:noFill/>
          <a:ln w="0">
            <a:noFill/>
          </a:ln>
        </p:spPr>
        <p:txBody>
          <a:bodyPr lIns="0" rIns="0" tIns="0" bIns="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the published mark scheme</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Using the Examiner Reports</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dditional resources for IGCSE Biology</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1):</a:t>
            </a:r>
            <a:br>
              <a:rPr sz="4000"/>
            </a:br>
            <a:r>
              <a:rPr b="0" lang="en-US" sz="4000" spc="-1" strike="noStrike">
                <a:solidFill>
                  <a:srgbClr val="74a5cd"/>
                </a:solidFill>
                <a:latin typeface="Arial"/>
              </a:rPr>
              <a:t>The importance of mark schemes</a:t>
            </a:r>
            <a:endParaRPr b="0" lang="en-US" sz="4000" spc="-1" strike="noStrike">
              <a:solidFill>
                <a:srgbClr val="74a5cd"/>
              </a:solidFill>
              <a:latin typeface="Arial"/>
            </a:endParaRPr>
          </a:p>
        </p:txBody>
      </p:sp>
      <p:sp>
        <p:nvSpPr>
          <p:cNvPr id="102" name="PlaceHolder 2"/>
          <p:cNvSpPr>
            <a:spLocks noGrp="1"/>
          </p:cNvSpPr>
          <p:nvPr>
            <p:ph/>
          </p:nvPr>
        </p:nvSpPr>
        <p:spPr>
          <a:xfrm>
            <a:off x="611280" y="2987280"/>
            <a:ext cx="813888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the allocation of mark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dicate the range of acceptable answe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examples of unacceptable answe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an indication of what Examiners are looking for in an answer </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2):</a:t>
            </a:r>
            <a:br>
              <a:rPr sz="4000"/>
            </a:br>
            <a:r>
              <a:rPr b="0" lang="en-US" sz="4000" spc="-1" strike="noStrike">
                <a:solidFill>
                  <a:srgbClr val="74a5cd"/>
                </a:solidFill>
                <a:latin typeface="Arial"/>
              </a:rPr>
              <a:t>Use with the Examiner Report</a:t>
            </a:r>
            <a:endParaRPr b="0" lang="en-US" sz="4000" spc="-1" strike="noStrike">
              <a:solidFill>
                <a:srgbClr val="74a5cd"/>
              </a:solidFill>
              <a:latin typeface="Arial"/>
            </a:endParaRPr>
          </a:p>
        </p:txBody>
      </p:sp>
      <p:sp>
        <p:nvSpPr>
          <p:cNvPr id="104" name="PlaceHolder 2"/>
          <p:cNvSpPr>
            <a:spLocks noGrp="1"/>
          </p:cNvSpPr>
          <p:nvPr>
            <p:ph/>
          </p:nvPr>
        </p:nvSpPr>
        <p:spPr>
          <a:xfrm>
            <a:off x="468000" y="2707920"/>
            <a:ext cx="8139240" cy="3870360"/>
          </a:xfrm>
          <a:prstGeom prst="rect">
            <a:avLst/>
          </a:prstGeom>
          <a:noFill/>
          <a:ln w="0">
            <a:noFill/>
          </a:ln>
        </p:spPr>
        <p:txBody>
          <a:bodyPr lIns="0" rIns="0" tIns="0" bIns="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and Examiner Report:</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oth give information about each part of each question</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hould be used side by side to analyse students’ answers to questions</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rovide information which can be passed on to studen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268280"/>
            <a:ext cx="8497800" cy="648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3):</a:t>
            </a:r>
            <a:br>
              <a:rPr sz="4000"/>
            </a:br>
            <a:r>
              <a:rPr b="0" lang="en-US" sz="4000" spc="-1" strike="noStrike">
                <a:solidFill>
                  <a:srgbClr val="74a5cd"/>
                </a:solidFill>
                <a:latin typeface="Arial"/>
              </a:rPr>
              <a:t>Analysis of candidate scripts</a:t>
            </a:r>
            <a:endParaRPr b="0" lang="en-US" sz="4000" spc="-1" strike="noStrike">
              <a:solidFill>
                <a:srgbClr val="74a5cd"/>
              </a:solidFill>
              <a:latin typeface="Arial"/>
            </a:endParaRPr>
          </a:p>
        </p:txBody>
      </p:sp>
      <p:sp>
        <p:nvSpPr>
          <p:cNvPr id="106" name="PlaceHolder 2"/>
          <p:cNvSpPr>
            <a:spLocks noGrp="1"/>
          </p:cNvSpPr>
          <p:nvPr>
            <p:ph/>
          </p:nvPr>
        </p:nvSpPr>
        <p:spPr>
          <a:xfrm>
            <a:off x="324000" y="2411280"/>
            <a:ext cx="8640720" cy="444672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each question in turn and do the following:</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ke yourself familiar with the mark scheme</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rk the questions showing clearly where you gave each mark</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ar in mind the marking guidelines given in Unit 2</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When you have finished, compare your marks with those of the Examiner.</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 (1):</a:t>
            </a:r>
            <a:br>
              <a:rPr sz="4000"/>
            </a:br>
            <a:r>
              <a:rPr b="0" lang="en-US" sz="4000" spc="-1" strike="noStrike">
                <a:solidFill>
                  <a:srgbClr val="74a5cd"/>
                </a:solidFill>
                <a:latin typeface="Arial"/>
              </a:rPr>
              <a:t>The importance of the reports</a:t>
            </a:r>
            <a:endParaRPr b="0" lang="en-US" sz="4000" spc="-1" strike="noStrike">
              <a:solidFill>
                <a:srgbClr val="74a5cd"/>
              </a:solidFill>
              <a:latin typeface="Arial"/>
            </a:endParaRPr>
          </a:p>
        </p:txBody>
      </p:sp>
      <p:sp>
        <p:nvSpPr>
          <p:cNvPr id="108" name="PlaceHolder 2"/>
          <p:cNvSpPr>
            <a:spLocks noGrp="1"/>
          </p:cNvSpPr>
          <p:nvPr>
            <p:ph/>
          </p:nvPr>
        </p:nvSpPr>
        <p:spPr>
          <a:xfrm>
            <a:off x="539640" y="2852280"/>
            <a:ext cx="8136000" cy="387036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range of candidate misconceptions is addresse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reas of weakness of the candidates as a whole are highlighte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asons are suggested for common incorrect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range of acceptable answers are commented 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1413000"/>
            <a:ext cx="813924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2):</a:t>
            </a:r>
            <a:br>
              <a:rPr sz="4000"/>
            </a:br>
            <a:r>
              <a:rPr b="0" lang="en-US" sz="4000" spc="-1" strike="noStrike">
                <a:solidFill>
                  <a:srgbClr val="74a5cd"/>
                </a:solidFill>
                <a:latin typeface="Arial"/>
              </a:rPr>
              <a:t>Analysis of contents</a:t>
            </a:r>
            <a:endParaRPr b="0" lang="en-US" sz="4000" spc="-1" strike="noStrike">
              <a:solidFill>
                <a:srgbClr val="74a5cd"/>
              </a:solidFill>
              <a:latin typeface="Arial"/>
            </a:endParaRPr>
          </a:p>
        </p:txBody>
      </p:sp>
      <p:sp>
        <p:nvSpPr>
          <p:cNvPr id="110" name="PlaceHolder 2"/>
          <p:cNvSpPr>
            <a:spLocks noGrp="1"/>
          </p:cNvSpPr>
          <p:nvPr>
            <p:ph/>
          </p:nvPr>
        </p:nvSpPr>
        <p:spPr>
          <a:xfrm>
            <a:off x="611280" y="2565000"/>
            <a:ext cx="8138880" cy="3938760"/>
          </a:xfrm>
          <a:prstGeom prst="rect">
            <a:avLst/>
          </a:prstGeom>
          <a:noFill/>
          <a:ln w="0">
            <a:noFill/>
          </a:ln>
        </p:spPr>
        <p:txBody>
          <a:bodyPr lIns="0" rIns="0" tIns="0" bIns="0" anchor="t">
            <a:normAutofit fontScale="95000"/>
          </a:bodyPr>
          <a:p>
            <a:pPr marL="325800" indent="-32580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ading of questions</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correct reference or lack of reference to the stem of a question</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correct extraction of information from a table</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dvice for future candidates</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areless use of words (which may result in candidates being penalised)</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oor quality of dia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1341000"/>
            <a:ext cx="889308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 (3):</a:t>
            </a:r>
            <a:br>
              <a:rPr sz="4000"/>
            </a:br>
            <a:r>
              <a:rPr b="0" lang="en-US" sz="4000" spc="-1" strike="noStrike">
                <a:solidFill>
                  <a:srgbClr val="74a5cd"/>
                </a:solidFill>
                <a:latin typeface="Arial"/>
              </a:rPr>
              <a:t>Teaching aims and Examiner Reports</a:t>
            </a:r>
            <a:endParaRPr b="0" lang="en-US" sz="4000" spc="-1" strike="noStrike">
              <a:solidFill>
                <a:srgbClr val="74a5cd"/>
              </a:solidFill>
              <a:latin typeface="Arial"/>
            </a:endParaRPr>
          </a:p>
        </p:txBody>
      </p:sp>
      <p:sp>
        <p:nvSpPr>
          <p:cNvPr id="112" name="PlaceHolder 2"/>
          <p:cNvSpPr>
            <a:spLocks noGrp="1"/>
          </p:cNvSpPr>
          <p:nvPr>
            <p:ph/>
          </p:nvPr>
        </p:nvSpPr>
        <p:spPr>
          <a:xfrm>
            <a:off x="324000" y="2636640"/>
            <a:ext cx="8138880" cy="38019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t is useful to analyse the Examiner Reports over a number of yea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re are a number of misconceptions that regularly reappear</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re are a number of specific areas which students find conceptually difficult</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18T20:46:33Z</dcterms:modified>
  <cp:revision>28</cp:revision>
  <dc:subject/>
  <dc:title>Main Powerpoint title</dc:title>
</cp:coreProperties>
</file>