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584A9-8783-4BBE-A3FE-26BB6E601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BEEBF-2902-4E0B-A0CD-031C87078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1FF85-3FA4-4E2C-AEFC-F65055377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41AB0-4443-4795-A20D-484CD8D46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10CA6-7E78-433C-98B3-02DB397BA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09EBB-DFD9-484C-9D30-E73A92B75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ECA2B-6611-4F0E-8D3D-7DDE138B6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77C72-C383-4039-BEF3-7E325BB67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B566D-EBA7-4D4D-802F-EDF5024AA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0D360-FA5A-4663-90FD-5D2533DDE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97ED2-2C6A-48EB-8515-E2792A7E7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10329-0208-4806-AB92-85B8C2C58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F31A4-E832-4C8E-BDD4-FB8134F9C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7CAAC-A547-4841-8A8F-4C15C5717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1F92D-7274-4A7C-98FD-9867FF087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771FE-1E89-4558-99DD-94A757376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E3710-28D1-4C31-B2FD-97E5E3F1E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103A43B-D8F8-402E-86FF-0DE35CF24A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CCCE4A-5E9B-48C7-8739-209EA80BF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CB95BE-DADE-4DE8-AB2C-14939D239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80E96E-95BE-4123-8C80-5E1DB4F92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431405-3415-4C04-A4BF-171EA2824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811B-B53C-4002-A01E-5BD61E85D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57026F-95A9-4610-9325-4095D56AEC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F5CA28-4325-4DBD-9BA3-BC7085792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75FF92-ECC2-4705-B0A5-92E992396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996406-3A83-4FD3-B329-948CAD2F6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D3B854E-349C-4620-9206-BF8FE92EA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221C33D-50CD-4DB0-BF2C-C0C2EB073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A27E0FD-4E9A-478C-9134-06B8BB4B9C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D788BF-CCAF-4C32-B239-370C54BBC4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513BA-3809-4D70-B8CB-F7AE99CA3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5FCD9-B983-4DDC-ADD3-9199655544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D4B15-A14C-4423-8382-2ACFF928A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8B656-0704-4DF1-8005-F2F1D0560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4941C-B663-4C30-B7F6-DDA61C259B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3FDBD-D965-4E84-92C0-EA89800A4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57BF6-4859-4671-AC3B-4DB896B24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7B893-ADDC-44CC-AC6C-74D0F3F92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C1F08-860B-4E9D-9624-F1DDB8008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CF377-F256-447E-9E72-225BA97B5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2F9B02-A8AC-49F1-A46E-894055CCA9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68DE27-93BB-47EB-9628-A2C26FC980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1DA32-1BD0-4DC2-998E-AA51B64E1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31D3-6F5E-4C16-99DD-2B3C1BB7B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99AA-4002-4A73-98E5-A0F6E4466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2A118-4448-4C7F-8C7D-E52C26DBE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745C-930E-4BE0-9306-B9322F419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A8C6-C272-49A5-B7FB-A888AA77A31F}"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7D6E-DBB0-439F-BB1F-48EA09436E1E}"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C17C-F430-463F-9384-8586ECB2456E}"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81BB-90E6-45FE-B434-103F251122BF}"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Z7C6LAEQUG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Z7C6LAEQUGs" TargetMode="External"/><Relationship Id="rId2" Type="http://schemas.openxmlformats.org/officeDocument/2006/relationships/hyperlink" Target="http://educatorscoop.org/blog/?p=12"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28400" y="1214280"/>
            <a:ext cx="84582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rebuchet MS"/>
              </a:rPr>
              <a:t>Immersive (Virtual) Worlds</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Georgia"/>
              </a:rPr>
              <a:t>Virtual Realit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Trebuchet MS"/>
              </a:rPr>
              <a:t>Newsletter task:</a:t>
            </a:r>
            <a:endParaRPr b="0" lang="en-US" sz="4000" spc="-1" strike="noStrike">
              <a:solidFill>
                <a:srgbClr val="424456"/>
              </a:solidFill>
              <a:latin typeface="Trebuchet MS"/>
            </a:endParaRPr>
          </a:p>
        </p:txBody>
      </p:sp>
      <p:sp>
        <p:nvSpPr>
          <p:cNvPr id="239" name=""/>
          <p:cNvSpPr txBox="1"/>
          <p:nvPr/>
        </p:nvSpPr>
        <p:spPr>
          <a:xfrm>
            <a:off x="457200" y="174960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Your task is to create a one page newsletter spread about Immersive (Virtual) Worlds and technologies which will be included in the schools newsletter.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The newsletter will be read by everyone at the school; Teachers and Pupils, as well as parents.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Your aim is to increase awareness about Immersive Worlds and technologies within the school and at home.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Trebuchet MS"/>
              </a:rPr>
              <a:t>Newsletter task:</a:t>
            </a:r>
            <a:endParaRPr b="0" lang="en-US" sz="4000" spc="-1" strike="noStrike">
              <a:solidFill>
                <a:srgbClr val="424456"/>
              </a:solidFill>
              <a:latin typeface="Trebuchet MS"/>
            </a:endParaRPr>
          </a:p>
        </p:txBody>
      </p:sp>
      <p:sp>
        <p:nvSpPr>
          <p:cNvPr id="241" name=""/>
          <p:cNvSpPr txBox="1"/>
          <p:nvPr/>
        </p:nvSpPr>
        <p:spPr>
          <a:xfrm>
            <a:off x="457200" y="1749600"/>
            <a:ext cx="8229600" cy="482256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You must include the following information in your newsletter:</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What are Immersive Worlds?</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Give at least three examples of what pupils could use Immersive Worlds for</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Give at least three examples of what businesses could use Immersive Worlds for</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What are the benefits to pupils of using Immersive Worlds</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What are the drawbacks / dangers to pupils of using Immersive World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Trebuchet MS"/>
              </a:rPr>
              <a:t>Plenary………..5, 4, 3, 2……….1</a:t>
            </a:r>
            <a:endParaRPr b="0" lang="en-US" sz="4000" spc="-1" strike="noStrike">
              <a:solidFill>
                <a:srgbClr val="424456"/>
              </a:solidFill>
              <a:latin typeface="Trebuchet MS"/>
            </a:endParaRPr>
          </a:p>
        </p:txBody>
      </p:sp>
      <p:sp>
        <p:nvSpPr>
          <p:cNvPr id="243" name=""/>
          <p:cNvSpPr txBox="1"/>
          <p:nvPr/>
        </p:nvSpPr>
        <p:spPr>
          <a:xfrm>
            <a:off x="457200" y="1749600"/>
            <a:ext cx="8229600" cy="482256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66ff"/>
                </a:solidFill>
                <a:latin typeface="Georgia"/>
              </a:rPr>
              <a:t>5.</a:t>
            </a:r>
            <a:r>
              <a:rPr b="0" lang="en-GB" sz="2600" spc="-1" strike="noStrike">
                <a:solidFill>
                  <a:srgbClr val="000000"/>
                </a:solidFill>
                <a:latin typeface="Georgia"/>
              </a:rPr>
              <a:t> Name 5 uses of Immersive (Virtual) Worlds</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66ff"/>
                </a:solidFill>
                <a:latin typeface="Georgia"/>
              </a:rPr>
              <a:t>4.</a:t>
            </a:r>
            <a:r>
              <a:rPr b="0" lang="en-GB" sz="2600" spc="-1" strike="noStrike">
                <a:solidFill>
                  <a:srgbClr val="000000"/>
                </a:solidFill>
                <a:latin typeface="Georgia"/>
              </a:rPr>
              <a:t> Name 4 benefits of Immersive (Virtual) Worlds</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66ff"/>
                </a:solidFill>
                <a:latin typeface="Georgia"/>
              </a:rPr>
              <a:t>3.</a:t>
            </a:r>
            <a:r>
              <a:rPr b="0" lang="en-GB" sz="2600" spc="-1" strike="noStrike">
                <a:solidFill>
                  <a:srgbClr val="000000"/>
                </a:solidFill>
                <a:latin typeface="Georgia"/>
              </a:rPr>
              <a:t> Name 3 dangers of Immersive (Virtual) Worlds</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66ff"/>
                </a:solidFill>
                <a:latin typeface="Georgia"/>
              </a:rPr>
              <a:t>2.</a:t>
            </a:r>
            <a:r>
              <a:rPr b="0" lang="en-GB" sz="2600" spc="-1" strike="noStrike">
                <a:solidFill>
                  <a:srgbClr val="000000"/>
                </a:solidFill>
                <a:latin typeface="Georgia"/>
              </a:rPr>
              <a:t> Name 2 Immersive (Virtual) World websites</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66ff"/>
                </a:solidFill>
                <a:latin typeface="Georgia"/>
              </a:rPr>
              <a:t>1.</a:t>
            </a:r>
            <a:r>
              <a:rPr b="0" lang="en-GB" sz="2600" spc="-1" strike="noStrike">
                <a:solidFill>
                  <a:srgbClr val="000000"/>
                </a:solidFill>
                <a:latin typeface="Georgia"/>
              </a:rPr>
              <a:t> If you had one choice, and one choice only, do you feel virtual worlds should be open to people under 18 years of ag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142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Trebuchet MS"/>
              </a:rPr>
              <a:t>Starter Activity</a:t>
            </a:r>
            <a:endParaRPr b="0" lang="en-US" sz="4000" spc="-1" strike="noStrike">
              <a:solidFill>
                <a:srgbClr val="424456"/>
              </a:solidFill>
              <a:latin typeface="Trebuchet MS"/>
            </a:endParaRPr>
          </a:p>
        </p:txBody>
      </p:sp>
      <p:pic>
        <p:nvPicPr>
          <p:cNvPr id="217" name="Picture 2" descr=""/>
          <p:cNvPicPr/>
          <p:nvPr/>
        </p:nvPicPr>
        <p:blipFill>
          <a:blip r:embed="rId1"/>
          <a:srcRect l="7030" t="14064" r="51953" b="10001"/>
          <a:stretch/>
        </p:blipFill>
        <p:spPr>
          <a:xfrm>
            <a:off x="4192560" y="1071720"/>
            <a:ext cx="4815000" cy="5572080"/>
          </a:xfrm>
          <a:prstGeom prst="rect">
            <a:avLst/>
          </a:prstGeom>
          <a:ln w="9360">
            <a:solidFill>
              <a:srgbClr val="000000"/>
            </a:solidFill>
            <a:miter/>
          </a:ln>
        </p:spPr>
      </p:pic>
      <p:sp>
        <p:nvSpPr>
          <p:cNvPr id="218" name="TextBox 4"/>
          <p:cNvSpPr/>
          <p:nvPr/>
        </p:nvSpPr>
        <p:spPr>
          <a:xfrm>
            <a:off x="500040" y="1928880"/>
            <a:ext cx="37148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ndependently complete the Immersive (Virtual) Worlds task shee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Trebuchet MS"/>
              </a:rPr>
              <a:t>What do we use the internet for?</a:t>
            </a:r>
            <a:endParaRPr b="0" lang="en-US" sz="4000" spc="-1" strike="noStrike">
              <a:solidFill>
                <a:srgbClr val="424456"/>
              </a:solidFill>
              <a:latin typeface="Trebuchet MS"/>
            </a:endParaRPr>
          </a:p>
        </p:txBody>
      </p:sp>
      <p:sp>
        <p:nvSpPr>
          <p:cNvPr id="220" name="Oval 3"/>
          <p:cNvSpPr/>
          <p:nvPr/>
        </p:nvSpPr>
        <p:spPr>
          <a:xfrm>
            <a:off x="2928960" y="3000240"/>
            <a:ext cx="3286080" cy="1928880"/>
          </a:xfrm>
          <a:prstGeom prst="ellipse">
            <a:avLst/>
          </a:prstGeom>
          <a:solidFill>
            <a:srgbClr val="bed3e1"/>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The Internet/ Onl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57120" y="42840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24456"/>
                </a:solidFill>
                <a:latin typeface="Trebuchet MS"/>
              </a:rPr>
              <a:t>What are the dangers of online activity?</a:t>
            </a:r>
            <a:endParaRPr b="0" lang="en-US" sz="3600" spc="-1" strike="noStrike">
              <a:solidFill>
                <a:srgbClr val="424456"/>
              </a:solidFill>
              <a:latin typeface="Trebuchet MS"/>
            </a:endParaRPr>
          </a:p>
        </p:txBody>
      </p:sp>
      <p:sp>
        <p:nvSpPr>
          <p:cNvPr id="222" name="Oval 3"/>
          <p:cNvSpPr/>
          <p:nvPr/>
        </p:nvSpPr>
        <p:spPr>
          <a:xfrm>
            <a:off x="2928960" y="3000240"/>
            <a:ext cx="3286080" cy="1928880"/>
          </a:xfrm>
          <a:prstGeom prst="ellipse">
            <a:avLst/>
          </a:prstGeom>
          <a:solidFill>
            <a:srgbClr val="bed3e1"/>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The Online dang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Trebuchet MS"/>
              </a:rPr>
              <a:t>Lesson Objectives</a:t>
            </a:r>
            <a:endParaRPr b="0" lang="en-US" sz="4000" spc="-1" strike="noStrike">
              <a:solidFill>
                <a:srgbClr val="424456"/>
              </a:solidFill>
              <a:latin typeface="Trebuchet MS"/>
            </a:endParaRPr>
          </a:p>
        </p:txBody>
      </p:sp>
      <p:sp>
        <p:nvSpPr>
          <p:cNvPr id="224" name=""/>
          <p:cNvSpPr txBox="1"/>
          <p:nvPr/>
        </p:nvSpPr>
        <p:spPr>
          <a:xfrm>
            <a:off x="457200" y="1749600"/>
            <a:ext cx="8229600" cy="4324320"/>
          </a:xfrm>
          <a:prstGeom prst="rect">
            <a:avLst/>
          </a:prstGeom>
          <a:noFill/>
          <a:ln w="0">
            <a:noFill/>
          </a:ln>
        </p:spPr>
        <p:txBody>
          <a:bodyPr anchor="t">
            <a:normAutofit fontScale="91000"/>
          </a:bodyPr>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eorgia"/>
              </a:rPr>
              <a:t>In this lesson, we are learning to:</a:t>
            </a:r>
            <a:endParaRPr b="0" lang="en-US" sz="26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Understand the meaning of Immersive (Virtual) Worlds</a:t>
            </a:r>
            <a:endParaRPr b="0" lang="en-US" sz="26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Understand how Immersive (Virtual) Worlds are used by people and organisations for different purposes</a:t>
            </a:r>
            <a:endParaRPr b="0" lang="en-US" sz="26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eorgia"/>
              </a:rPr>
              <a:t>Evaluate the benefits and dangers of Immersive (Virtual) Worlds</a:t>
            </a:r>
            <a:endParaRPr b="0" lang="en-US" sz="26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Trebuchet MS"/>
              </a:rPr>
              <a:t>Lesson Outcomes</a:t>
            </a:r>
            <a:endParaRPr b="0" lang="en-US" sz="4000" spc="-1" strike="noStrike">
              <a:solidFill>
                <a:srgbClr val="424456"/>
              </a:solidFill>
              <a:latin typeface="Trebuchet MS"/>
            </a:endParaRPr>
          </a:p>
        </p:txBody>
      </p:sp>
      <p:sp>
        <p:nvSpPr>
          <p:cNvPr id="226" name=""/>
          <p:cNvSpPr txBox="1"/>
          <p:nvPr/>
        </p:nvSpPr>
        <p:spPr>
          <a:xfrm>
            <a:off x="457200" y="17496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eorgia"/>
              </a:rPr>
              <a:t>In this lesson, what I am looking for is:</a:t>
            </a: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Students to use their understanding of Immersive (Virtual) Worlds to create a newsletter article about Immersive (Virtual) Worlds. The best one will be published in the schools newsletter.</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Trebuchet MS"/>
              </a:rPr>
              <a:t>Lesson Keywords</a:t>
            </a:r>
            <a:endParaRPr b="0" lang="en-US" sz="4000" spc="-1" strike="noStrike">
              <a:solidFill>
                <a:srgbClr val="424456"/>
              </a:solidFill>
              <a:latin typeface="Trebuchet MS"/>
            </a:endParaRPr>
          </a:p>
        </p:txBody>
      </p:sp>
      <p:pic>
        <p:nvPicPr>
          <p:cNvPr id="228" name="Content Placeholder 2" descr=""/>
          <p:cNvPicPr/>
          <p:nvPr/>
        </p:nvPicPr>
        <p:blipFill>
          <a:blip r:embed="rId1"/>
          <a:stretch/>
        </p:blipFill>
        <p:spPr>
          <a:xfrm>
            <a:off x="450720" y="1633680"/>
            <a:ext cx="8412120" cy="444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24456"/>
                </a:solidFill>
                <a:latin typeface="Trebuchet MS"/>
              </a:rPr>
              <a:t>What are Immersive (Virtual) Worlds?</a:t>
            </a:r>
            <a:endParaRPr b="0" lang="en-US" sz="3600" spc="-1" strike="noStrike">
              <a:solidFill>
                <a:srgbClr val="424456"/>
              </a:solidFill>
              <a:latin typeface="Trebuchet MS"/>
            </a:endParaRPr>
          </a:p>
        </p:txBody>
      </p:sp>
      <p:sp>
        <p:nvSpPr>
          <p:cNvPr id="230" name=""/>
          <p:cNvSpPr txBox="1"/>
          <p:nvPr/>
        </p:nvSpPr>
        <p:spPr>
          <a:xfrm>
            <a:off x="457200" y="174960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An Immersive World (Virtual World) is a 3-D virtual reality world in which people can communicate and interact with other “virtual people”, usually known as “Avatars”......</a:t>
            </a:r>
            <a:endParaRPr b="0" lang="en-US" sz="2400" spc="-1" strike="noStrike">
              <a:solidFill>
                <a:srgbClr val="000000"/>
              </a:solidFill>
              <a:latin typeface="Georgia"/>
            </a:endParaRPr>
          </a:p>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The most common immersive world is known as “Second Life” and in recent times, universities and businesses have created virtual worlds in which their students and employees respectively, can engage and interact with each other virtually............so not actually being there in person, but communication online (or virtually).</a:t>
            </a:r>
            <a:endParaRPr b="0" lang="en-US" sz="24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1" name="Action Button: Movie 3">
            <a:hlinkClick r:id="rId1"/>
          </p:cNvPr>
          <p:cNvSpPr/>
          <p:nvPr/>
        </p:nvSpPr>
        <p:spPr>
          <a:xfrm>
            <a:off x="7929720" y="6072120"/>
            <a:ext cx="1000080" cy="642960"/>
          </a:xfrm>
          <a:custGeom>
            <a:avLst/>
            <a:gdLst>
              <a:gd name="textAreaLeft" fmla="*/ 41400 w 1000080"/>
              <a:gd name="textAreaRight" fmla="*/ 958680 w 1000080"/>
              <a:gd name="textAreaTop" fmla="*/ 41400 h 642960"/>
              <a:gd name="textAreaBottom" fmla="*/ 601560 h 642960"/>
            </a:gdLst>
            <a:ahLst/>
            <a:rect l="textAreaLeft" t="textAreaTop" r="textAreaRight" b="textAreaBottom"/>
            <a:pathLst>
              <a:path w="33591" h="21600">
                <a:moveTo>
                  <a:pt x="0" y="0"/>
                </a:moveTo>
                <a:lnTo>
                  <a:pt x="33591" y="0"/>
                </a:lnTo>
                <a:lnTo>
                  <a:pt x="33591" y="21600"/>
                </a:lnTo>
                <a:lnTo>
                  <a:pt x="0" y="21600"/>
                </a:lnTo>
                <a:close/>
              </a:path>
              <a:path fill="lightenLess" w="33591" h="21600">
                <a:moveTo>
                  <a:pt x="0" y="0"/>
                </a:moveTo>
                <a:lnTo>
                  <a:pt x="33591" y="0"/>
                </a:lnTo>
                <a:lnTo>
                  <a:pt x="32191" y="1400"/>
                </a:lnTo>
                <a:lnTo>
                  <a:pt x="1400" y="1400"/>
                </a:lnTo>
                <a:close/>
              </a:path>
              <a:path fill="darken" w="33591" h="21600">
                <a:moveTo>
                  <a:pt x="33591" y="0"/>
                </a:moveTo>
                <a:lnTo>
                  <a:pt x="33591" y="21600"/>
                </a:lnTo>
                <a:lnTo>
                  <a:pt x="32191" y="20200"/>
                </a:lnTo>
                <a:lnTo>
                  <a:pt x="32191" y="1400"/>
                </a:lnTo>
                <a:close/>
              </a:path>
              <a:path fill="darkenLess" w="33591" h="21600">
                <a:moveTo>
                  <a:pt x="33591" y="21600"/>
                </a:moveTo>
                <a:lnTo>
                  <a:pt x="0" y="21600"/>
                </a:lnTo>
                <a:lnTo>
                  <a:pt x="1400" y="20200"/>
                </a:lnTo>
                <a:lnTo>
                  <a:pt x="32191" y="20200"/>
                </a:lnTo>
                <a:close/>
              </a:path>
              <a:path fill="lighten" w="33591" h="21600">
                <a:moveTo>
                  <a:pt x="0" y="21600"/>
                </a:moveTo>
                <a:lnTo>
                  <a:pt x="0" y="0"/>
                </a:lnTo>
                <a:lnTo>
                  <a:pt x="1400" y="1400"/>
                </a:lnTo>
                <a:lnTo>
                  <a:pt x="1400" y="20200"/>
                </a:lnTo>
                <a:close/>
              </a:path>
              <a:path fill="darken" w="33591" h="21600">
                <a:moveTo>
                  <a:pt x="9789" y="7301"/>
                </a:moveTo>
                <a:lnTo>
                  <a:pt x="10703" y="7301"/>
                </a:lnTo>
                <a:lnTo>
                  <a:pt x="11086" y="7667"/>
                </a:lnTo>
                <a:lnTo>
                  <a:pt x="20294" y="7667"/>
                </a:lnTo>
                <a:lnTo>
                  <a:pt x="20851" y="8224"/>
                </a:lnTo>
                <a:lnTo>
                  <a:pt x="20851" y="8772"/>
                </a:lnTo>
                <a:lnTo>
                  <a:pt x="22696" y="8772"/>
                </a:lnTo>
                <a:lnTo>
                  <a:pt x="23062" y="8224"/>
                </a:lnTo>
                <a:lnTo>
                  <a:pt x="23802" y="8224"/>
                </a:lnTo>
                <a:lnTo>
                  <a:pt x="23802" y="13376"/>
                </a:lnTo>
                <a:lnTo>
                  <a:pt x="23062" y="13376"/>
                </a:lnTo>
                <a:lnTo>
                  <a:pt x="22696" y="12828"/>
                </a:lnTo>
                <a:lnTo>
                  <a:pt x="20851" y="12828"/>
                </a:lnTo>
                <a:lnTo>
                  <a:pt x="20851" y="14107"/>
                </a:lnTo>
                <a:lnTo>
                  <a:pt x="11268" y="14107"/>
                </a:lnTo>
                <a:lnTo>
                  <a:pt x="11268" y="9877"/>
                </a:lnTo>
                <a:lnTo>
                  <a:pt x="11086" y="9877"/>
                </a:lnTo>
                <a:lnTo>
                  <a:pt x="10703" y="10243"/>
                </a:lnTo>
                <a:lnTo>
                  <a:pt x="9789" y="10243"/>
                </a:lnTo>
                <a:close/>
              </a:path>
            </a:pathLst>
          </a:cu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4"/>
          <p:cNvSpPr/>
          <p:nvPr/>
        </p:nvSpPr>
        <p:spPr>
          <a:xfrm>
            <a:off x="6312240" y="6143760"/>
            <a:ext cx="159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An introduc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to virtual wor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330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24456"/>
                </a:solidFill>
                <a:latin typeface="Trebuchet MS"/>
              </a:rPr>
              <a:t>What are Immersive (Virtual) Worlds?</a:t>
            </a:r>
            <a:endParaRPr b="0" lang="en-US" sz="3600" spc="-1" strike="noStrike">
              <a:solidFill>
                <a:srgbClr val="424456"/>
              </a:solidFill>
              <a:latin typeface="Trebuchet MS"/>
            </a:endParaRPr>
          </a:p>
        </p:txBody>
      </p:sp>
      <p:sp>
        <p:nvSpPr>
          <p:cNvPr id="234" name=""/>
          <p:cNvSpPr txBox="1"/>
          <p:nvPr/>
        </p:nvSpPr>
        <p:spPr>
          <a:xfrm>
            <a:off x="457200" y="1356840"/>
            <a:ext cx="8229600" cy="4822920"/>
          </a:xfrm>
          <a:prstGeom prst="rect">
            <a:avLst/>
          </a:prstGeom>
          <a:noFill/>
          <a:ln w="0">
            <a:noFill/>
          </a:ln>
        </p:spPr>
        <p:txBody>
          <a:bodyPr anchor="t">
            <a:normAutofit fontScale="97000"/>
          </a:bodyPr>
          <a:p>
            <a:pPr marL="353880" indent="-2476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Video Recap:</a:t>
            </a:r>
            <a:endParaRPr b="0" lang="en-US" sz="28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A virtual world in an online environment accessed by multiple users</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In a virtual world you can:</a:t>
            </a:r>
            <a:endParaRPr b="0" lang="en-US" sz="2400" spc="-1" strike="noStrike">
              <a:solidFill>
                <a:srgbClr val="000000"/>
              </a:solidFill>
              <a:latin typeface="Georgia"/>
            </a:endParaRPr>
          </a:p>
          <a:p>
            <a:pPr lvl="1" marL="637560" indent="-23868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38086"/>
                </a:solidFill>
                <a:latin typeface="Georgia"/>
              </a:rPr>
              <a:t>Build a business/Trade</a:t>
            </a:r>
            <a:endParaRPr b="0" lang="en-US" sz="2200" spc="-1" strike="noStrike">
              <a:solidFill>
                <a:srgbClr val="438086"/>
              </a:solidFill>
              <a:latin typeface="Georgia"/>
            </a:endParaRPr>
          </a:p>
          <a:p>
            <a:pPr lvl="1" marL="637560" indent="-23868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38086"/>
                </a:solidFill>
                <a:latin typeface="Georgia"/>
              </a:rPr>
              <a:t>Communicate with each other (Find love maybe?)</a:t>
            </a:r>
            <a:endParaRPr b="0" lang="en-US" sz="2200" spc="-1" strike="noStrike">
              <a:solidFill>
                <a:srgbClr val="438086"/>
              </a:solidFill>
              <a:latin typeface="Georgia"/>
            </a:endParaRPr>
          </a:p>
          <a:p>
            <a:pPr lvl="1" marL="637560" indent="-23868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38086"/>
                </a:solidFill>
                <a:latin typeface="Georgia"/>
              </a:rPr>
              <a:t>Listen to virtual concerts</a:t>
            </a:r>
            <a:endParaRPr b="0" lang="en-US" sz="2200" spc="-1" strike="noStrike">
              <a:solidFill>
                <a:srgbClr val="438086"/>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Second life is a virtual world – you can trade with virtual money and live a whole virtual life</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Adidas and Dell have established themselves on Second Life – they can observe how customers navigate around the shop and what they are interested in – This can give companies valuable customer information</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Action Button: Movie 3">
            <a:hlinkClick r:id="rId1"/>
          </p:cNvPr>
          <p:cNvSpPr/>
          <p:nvPr/>
        </p:nvSpPr>
        <p:spPr>
          <a:xfrm>
            <a:off x="6686640" y="6072120"/>
            <a:ext cx="1000080" cy="642960"/>
          </a:xfrm>
          <a:custGeom>
            <a:avLst/>
            <a:gdLst>
              <a:gd name="textAreaLeft" fmla="*/ 41400 w 1000080"/>
              <a:gd name="textAreaRight" fmla="*/ 958680 w 1000080"/>
              <a:gd name="textAreaTop" fmla="*/ 41400 h 642960"/>
              <a:gd name="textAreaBottom" fmla="*/ 601560 h 642960"/>
            </a:gdLst>
            <a:ahLst/>
            <a:rect l="textAreaLeft" t="textAreaTop" r="textAreaRight" b="textAreaBottom"/>
            <a:pathLst>
              <a:path w="33591" h="21600">
                <a:moveTo>
                  <a:pt x="0" y="0"/>
                </a:moveTo>
                <a:lnTo>
                  <a:pt x="33591" y="0"/>
                </a:lnTo>
                <a:lnTo>
                  <a:pt x="33591" y="21600"/>
                </a:lnTo>
                <a:lnTo>
                  <a:pt x="0" y="21600"/>
                </a:lnTo>
                <a:close/>
              </a:path>
              <a:path fill="lightenLess" w="33591" h="21600">
                <a:moveTo>
                  <a:pt x="0" y="0"/>
                </a:moveTo>
                <a:lnTo>
                  <a:pt x="33591" y="0"/>
                </a:lnTo>
                <a:lnTo>
                  <a:pt x="32191" y="1400"/>
                </a:lnTo>
                <a:lnTo>
                  <a:pt x="1400" y="1400"/>
                </a:lnTo>
                <a:close/>
              </a:path>
              <a:path fill="darken" w="33591" h="21600">
                <a:moveTo>
                  <a:pt x="33591" y="0"/>
                </a:moveTo>
                <a:lnTo>
                  <a:pt x="33591" y="21600"/>
                </a:lnTo>
                <a:lnTo>
                  <a:pt x="32191" y="20200"/>
                </a:lnTo>
                <a:lnTo>
                  <a:pt x="32191" y="1400"/>
                </a:lnTo>
                <a:close/>
              </a:path>
              <a:path fill="darkenLess" w="33591" h="21600">
                <a:moveTo>
                  <a:pt x="33591" y="21600"/>
                </a:moveTo>
                <a:lnTo>
                  <a:pt x="0" y="21600"/>
                </a:lnTo>
                <a:lnTo>
                  <a:pt x="1400" y="20200"/>
                </a:lnTo>
                <a:lnTo>
                  <a:pt x="32191" y="20200"/>
                </a:lnTo>
                <a:close/>
              </a:path>
              <a:path fill="lighten" w="33591" h="21600">
                <a:moveTo>
                  <a:pt x="0" y="21600"/>
                </a:moveTo>
                <a:lnTo>
                  <a:pt x="0" y="0"/>
                </a:lnTo>
                <a:lnTo>
                  <a:pt x="1400" y="1400"/>
                </a:lnTo>
                <a:lnTo>
                  <a:pt x="1400" y="20200"/>
                </a:lnTo>
                <a:close/>
              </a:path>
              <a:path fill="darken" w="33591" h="21600">
                <a:moveTo>
                  <a:pt x="9789" y="7301"/>
                </a:moveTo>
                <a:lnTo>
                  <a:pt x="10703" y="7301"/>
                </a:lnTo>
                <a:lnTo>
                  <a:pt x="11086" y="7667"/>
                </a:lnTo>
                <a:lnTo>
                  <a:pt x="20294" y="7667"/>
                </a:lnTo>
                <a:lnTo>
                  <a:pt x="20851" y="8224"/>
                </a:lnTo>
                <a:lnTo>
                  <a:pt x="20851" y="8772"/>
                </a:lnTo>
                <a:lnTo>
                  <a:pt x="22696" y="8772"/>
                </a:lnTo>
                <a:lnTo>
                  <a:pt x="23062" y="8224"/>
                </a:lnTo>
                <a:lnTo>
                  <a:pt x="23802" y="8224"/>
                </a:lnTo>
                <a:lnTo>
                  <a:pt x="23802" y="13376"/>
                </a:lnTo>
                <a:lnTo>
                  <a:pt x="23062" y="13376"/>
                </a:lnTo>
                <a:lnTo>
                  <a:pt x="22696" y="12828"/>
                </a:lnTo>
                <a:lnTo>
                  <a:pt x="20851" y="12828"/>
                </a:lnTo>
                <a:lnTo>
                  <a:pt x="20851" y="14107"/>
                </a:lnTo>
                <a:lnTo>
                  <a:pt x="11268" y="14107"/>
                </a:lnTo>
                <a:lnTo>
                  <a:pt x="11268" y="9877"/>
                </a:lnTo>
                <a:lnTo>
                  <a:pt x="11086" y="9877"/>
                </a:lnTo>
                <a:lnTo>
                  <a:pt x="10703" y="10243"/>
                </a:lnTo>
                <a:lnTo>
                  <a:pt x="9789" y="10243"/>
                </a:lnTo>
                <a:close/>
              </a:path>
            </a:pathLst>
          </a:cu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eorgia"/>
              </a:rPr>
              <a:t>Youtube</a:t>
            </a:r>
            <a:endParaRPr b="0" lang="en-US" sz="1200" spc="-1" strike="noStrike">
              <a:solidFill>
                <a:srgbClr val="000000"/>
              </a:solidFill>
              <a:latin typeface="Arial"/>
            </a:endParaRPr>
          </a:p>
        </p:txBody>
      </p:sp>
      <p:sp>
        <p:nvSpPr>
          <p:cNvPr id="236" name="TextBox 4"/>
          <p:cNvSpPr/>
          <p:nvPr/>
        </p:nvSpPr>
        <p:spPr>
          <a:xfrm>
            <a:off x="5245560" y="6191280"/>
            <a:ext cx="148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Virtual Worl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 education</a:t>
            </a:r>
            <a:endParaRPr b="0" lang="en-US" sz="1400" spc="-1" strike="noStrike">
              <a:solidFill>
                <a:srgbClr val="000000"/>
              </a:solidFill>
              <a:latin typeface="Arial"/>
            </a:endParaRPr>
          </a:p>
        </p:txBody>
      </p:sp>
      <p:sp>
        <p:nvSpPr>
          <p:cNvPr id="237" name="Action Button: Movie 5">
            <a:hlinkClick r:id="rId2"/>
          </p:cNvPr>
          <p:cNvSpPr/>
          <p:nvPr/>
        </p:nvSpPr>
        <p:spPr>
          <a:xfrm>
            <a:off x="7858080" y="6072120"/>
            <a:ext cx="1000080" cy="642960"/>
          </a:xfrm>
          <a:custGeom>
            <a:avLst/>
            <a:gdLst>
              <a:gd name="textAreaLeft" fmla="*/ 41400 w 1000080"/>
              <a:gd name="textAreaRight" fmla="*/ 958680 w 1000080"/>
              <a:gd name="textAreaTop" fmla="*/ 41400 h 642960"/>
              <a:gd name="textAreaBottom" fmla="*/ 601560 h 642960"/>
            </a:gdLst>
            <a:ahLst/>
            <a:rect l="textAreaLeft" t="textAreaTop" r="textAreaRight" b="textAreaBottom"/>
            <a:pathLst>
              <a:path w="33591" h="21600">
                <a:moveTo>
                  <a:pt x="0" y="0"/>
                </a:moveTo>
                <a:lnTo>
                  <a:pt x="33591" y="0"/>
                </a:lnTo>
                <a:lnTo>
                  <a:pt x="33591" y="21600"/>
                </a:lnTo>
                <a:lnTo>
                  <a:pt x="0" y="21600"/>
                </a:lnTo>
                <a:close/>
              </a:path>
              <a:path fill="lightenLess" w="33591" h="21600">
                <a:moveTo>
                  <a:pt x="0" y="0"/>
                </a:moveTo>
                <a:lnTo>
                  <a:pt x="33591" y="0"/>
                </a:lnTo>
                <a:lnTo>
                  <a:pt x="32191" y="1400"/>
                </a:lnTo>
                <a:lnTo>
                  <a:pt x="1400" y="1400"/>
                </a:lnTo>
                <a:close/>
              </a:path>
              <a:path fill="darken" w="33591" h="21600">
                <a:moveTo>
                  <a:pt x="33591" y="0"/>
                </a:moveTo>
                <a:lnTo>
                  <a:pt x="33591" y="21600"/>
                </a:lnTo>
                <a:lnTo>
                  <a:pt x="32191" y="20200"/>
                </a:lnTo>
                <a:lnTo>
                  <a:pt x="32191" y="1400"/>
                </a:lnTo>
                <a:close/>
              </a:path>
              <a:path fill="darkenLess" w="33591" h="21600">
                <a:moveTo>
                  <a:pt x="33591" y="21600"/>
                </a:moveTo>
                <a:lnTo>
                  <a:pt x="0" y="21600"/>
                </a:lnTo>
                <a:lnTo>
                  <a:pt x="1400" y="20200"/>
                </a:lnTo>
                <a:lnTo>
                  <a:pt x="32191" y="20200"/>
                </a:lnTo>
                <a:close/>
              </a:path>
              <a:path fill="lighten" w="33591" h="21600">
                <a:moveTo>
                  <a:pt x="0" y="21600"/>
                </a:moveTo>
                <a:lnTo>
                  <a:pt x="0" y="0"/>
                </a:lnTo>
                <a:lnTo>
                  <a:pt x="1400" y="1400"/>
                </a:lnTo>
                <a:lnTo>
                  <a:pt x="1400" y="20200"/>
                </a:lnTo>
                <a:close/>
              </a:path>
              <a:path fill="darken" w="33591" h="21600">
                <a:moveTo>
                  <a:pt x="9789" y="7301"/>
                </a:moveTo>
                <a:lnTo>
                  <a:pt x="10703" y="7301"/>
                </a:lnTo>
                <a:lnTo>
                  <a:pt x="11086" y="7667"/>
                </a:lnTo>
                <a:lnTo>
                  <a:pt x="20294" y="7667"/>
                </a:lnTo>
                <a:lnTo>
                  <a:pt x="20851" y="8224"/>
                </a:lnTo>
                <a:lnTo>
                  <a:pt x="20851" y="8772"/>
                </a:lnTo>
                <a:lnTo>
                  <a:pt x="22696" y="8772"/>
                </a:lnTo>
                <a:lnTo>
                  <a:pt x="23062" y="8224"/>
                </a:lnTo>
                <a:lnTo>
                  <a:pt x="23802" y="8224"/>
                </a:lnTo>
                <a:lnTo>
                  <a:pt x="23802" y="13376"/>
                </a:lnTo>
                <a:lnTo>
                  <a:pt x="23062" y="13376"/>
                </a:lnTo>
                <a:lnTo>
                  <a:pt x="22696" y="12828"/>
                </a:lnTo>
                <a:lnTo>
                  <a:pt x="20851" y="12828"/>
                </a:lnTo>
                <a:lnTo>
                  <a:pt x="20851" y="14107"/>
                </a:lnTo>
                <a:lnTo>
                  <a:pt x="11268" y="14107"/>
                </a:lnTo>
                <a:lnTo>
                  <a:pt x="11268" y="9877"/>
                </a:lnTo>
                <a:lnTo>
                  <a:pt x="11086" y="9877"/>
                </a:lnTo>
                <a:lnTo>
                  <a:pt x="10703" y="10243"/>
                </a:lnTo>
                <a:lnTo>
                  <a:pt x="9789" y="10243"/>
                </a:lnTo>
                <a:close/>
              </a:path>
            </a:pathLst>
          </a:cu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eorgia"/>
              </a:rPr>
              <a:t>Educators Coo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9T20:53:25Z</dcterms:created>
  <dc:creator>Mohammad.Rawat</dc:creator>
  <dc:description/>
  <dc:language>en-US</dc:language>
  <cp:lastModifiedBy>hayerh</cp:lastModifiedBy>
  <dcterms:modified xsi:type="dcterms:W3CDTF">2011-02-07T14:11:30Z</dcterms:modified>
  <cp:revision>32</cp:revision>
  <dc:subject/>
  <dc:title>Immersive (Virtual) Worlds</dc:title>
</cp:coreProperties>
</file>