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B7C-C6C1-44BC-B794-EA1CDB8D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3B9-FEBF-4880-BA64-F58429D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B97-EDBB-49DF-AAF5-05B5BFF2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FFA-8C8B-4E73-8EF2-E6102508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609-9315-4884-BA0E-C247809D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9DE-229A-4203-AC0E-3273972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D00-6C97-4DE0-80FC-DD29847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A82-8486-4608-8CB3-3E94448C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01E-19C3-46B8-96D5-4E87789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1D4-0F7B-49E6-A235-55F49E18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083-76E3-4FC8-B520-16396F3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9E3-D2D1-4E9B-B721-15F24B3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973E-8875-4F91-8E5A-934ED939764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, CN, 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7AA-4266-4FBC-8548-58520C2D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7089" b="0"/>
          <a:stretch/>
        </p:blipFill>
        <p:spPr>
          <a:xfrm>
            <a:off x="250920" y="189000"/>
            <a:ext cx="127152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reception@camdale.ne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29528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Welcome to </a:t>
            </a:r>
            <a:br>
              <a:rPr sz="6000"/>
            </a:b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"/>
              </a:rPr>
              <a:t>Camdale Country Pa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361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more about the forthco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1020847" descr=""/>
          <p:cNvPicPr/>
          <p:nvPr/>
        </p:nvPicPr>
        <p:blipFill>
          <a:blip r:embed="rId1"/>
          <a:stretch/>
        </p:blipFill>
        <p:spPr>
          <a:xfrm>
            <a:off x="5105520" y="3666960"/>
            <a:ext cx="3504960" cy="25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1B4-39AB-421A-B8CF-E78FE05C37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B3DB-66C7-4849-9FF3-0BD890F5AB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Next Event - Nature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visitors aged 8-14 years (cost £5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aturday 14 October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 at 9.30 a.m. for a 10.00 a.m.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l ends at 12.00 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for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findings in the Meeting Room until 2.00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3600" y="4830840"/>
            <a:ext cx="235908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6F6-F312-4305-9079-FFC5DD7C76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397F3-DA1F-4D85-AE2C-C601FB421A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Eve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joy a short briefing about the Park and the animals or insects you might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how to spot the clues to fin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 how many woodland animals and insects you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er your data to the Par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charts and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your name to the lis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8486" t="12612" r="9214" b="11508"/>
          <a:stretch/>
        </p:blipFill>
        <p:spPr>
          <a:xfrm>
            <a:off x="6372360" y="4724280"/>
            <a:ext cx="1834920" cy="16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6F8-1CC4-45F2-BEDF-48ACE95BC0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3AAEB-AE69-4BB9-AB2A-B1FAF029CF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Registering for the ev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vent Manager – James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ick up a registration form fr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Park Office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ster by e-mail - </a:t>
            </a:r>
            <a:r>
              <a:rPr b="0" lang="en-GB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ception@camdale.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ster by telephone - 05987 9089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osing date:  7 October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D6E-56EB-4366-AA84-5C87F688679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20040-4BA4-40F2-9CFE-C0C809B1D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0:50:31Z</dcterms:created>
  <dc:creator>sue.nutt</dc:creator>
  <dc:description/>
  <dc:language>en-US</dc:language>
  <cp:lastModifiedBy>helemars</cp:lastModifiedBy>
  <dcterms:modified xsi:type="dcterms:W3CDTF">2008-08-28T14:29:35Z</dcterms:modified>
  <cp:revision>7</cp:revision>
  <dc:subject/>
  <dc:title>Slide 1</dc:title>
</cp:coreProperties>
</file>