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265-74C5-47BC-B9B6-45A7D329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6D4-8283-49B6-8634-648FFBAD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AFB-80D2-4FF3-85D0-DB45EFF8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F75-105C-47B5-B6F5-E1FEEFA8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D4C-B1EA-476D-BC91-A085288D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1C4-92AB-4AF5-A0CC-396486EA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1AA-77A0-4043-81A5-71045941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89A-E1F2-4C7E-8143-18B8499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DC9-ACD0-4AC6-BD06-C508858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04D-7B95-4C63-BF96-6393042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1F8-88F4-4E82-9B41-724A9F8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AED-5EDF-44E1-9561-7A4BEBD5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, CN, 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6E2E-5A48-4CD7-94AE-A7BB0BDB8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7089" b="0"/>
          <a:stretch/>
        </p:blipFill>
        <p:spPr>
          <a:xfrm>
            <a:off x="250920" y="189000"/>
            <a:ext cx="1271520" cy="8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130480"/>
            <a:ext cx="883908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Welcome to </a:t>
            </a:r>
            <a:br>
              <a:rPr sz="5400"/>
            </a:b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Camdale Country P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hope you enjoy your visit to our peaceful environ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1020842" descr=""/>
          <p:cNvPicPr/>
          <p:nvPr/>
        </p:nvPicPr>
        <p:blipFill>
          <a:blip r:embed="rId1"/>
          <a:stretch/>
        </p:blipFill>
        <p:spPr>
          <a:xfrm>
            <a:off x="6019920" y="152280"/>
            <a:ext cx="2895480" cy="212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458-0606-47F5-98DC-0C36C74443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pen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ter (1 November to 28 Febru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day to Saturday – 9.00 a.m. ‘til du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day - 10.00 a.m. to 4.00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er (1 March to 31 Octo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day to Saturday – 9.00 a.m. to 7.00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day – 10.00 a.m. to 6.00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93C-1464-47A0-AFE6-CECE3E403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Tea 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tea rooms are open daily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.00 a.m. to 4.00 p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ell a delicious range of sandwiches and cak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daily specials to temp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x over tea after you have explored the pa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FCA-81E2-497F-B4DC-6EB2B59421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rk Staff – at your serv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k Manager – Tim Wat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a rooms Manager – Sally K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vent Manager – James Marsh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DC3-296C-42AD-A24B-EC9F8CFE9D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0:50:31Z</dcterms:created>
  <dc:creator>sue.nutt</dc:creator>
  <dc:description/>
  <dc:language>en-US</dc:language>
  <cp:lastModifiedBy>sue</cp:lastModifiedBy>
  <dcterms:modified xsi:type="dcterms:W3CDTF">2008-05-04T19:02:00Z</dcterms:modified>
  <cp:revision>4</cp:revision>
  <dc:subject/>
  <dc:title>Slide 1</dc:title>
</cp:coreProperties>
</file>