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WHOOSH.WAV" ContentType="audio/x-wav"/>
  <Override PartName="/ppt/media/LASER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0480" indent="-330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04040" indent="-3304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665000" indent="-330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004480" indent="-172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363400" indent="-19152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363400" indent="-1915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363400" indent="-1915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AS Psychology</a:t>
            </a:r>
            <a:br>
              <a:rPr sz="5100"/>
            </a:b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e Social Approach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ep 1 - Noticing the ev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we do not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notic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e will not hel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ep 2 - Defining the event as an emergenc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the sad case of Jamie Bulger many witnesses failed to interve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y did not interpret the event as an emergenc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you intervene in a lovers quarrel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 according to Shotland &amp; Straw (1976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ep 3 - Assuming personal responsibi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others are present you may assum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ill hel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may lead to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ffusion of Responsibil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may be why no one helped Kitty Genove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ep 4 - Choose a way to help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involves making a decision  and perhaps weighing up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sts vs Benefi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helping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tep 5 - Implement the decisio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m I competent to help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here anyone else around who may be more competen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ight I  do more harm than goo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problem with this model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t explains why peopl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o no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hel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&amp; why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y d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Pause for though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do we help oth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are we less likely to help other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helping situations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en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do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people help and wh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iliavin Rodin &amp; Pilavin  (1968)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A Field Experimen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Good Samaritanism on the New York Sub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cost / benefit theor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at when confronted with an ‘emergency’ w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balanc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he possible costs against the possi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possible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costs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of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helping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effort (may be physically demanding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time required (we may be late for work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oss of resources (damage to cloth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isk of harm (we may get injur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gative emotional response (we may feel sick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Pro-social (Altruistic) behaviou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0040" y="3212640"/>
            <a:ext cx="39909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ruism has been defined as behaviour intended to help others havi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benefit to oursel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3212640"/>
            <a:ext cx="3990960" cy="3272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364000" y="2852640"/>
            <a:ext cx="2752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possible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costs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for </a:t>
            </a:r>
            <a:r>
              <a:rPr b="1" lang="en-GB" sz="3600" spc="-1" strike="noStrike" u="sng">
                <a:solidFill>
                  <a:srgbClr val="e89d00"/>
                </a:solidFill>
                <a:uFillTx/>
                <a:latin typeface="Arial"/>
              </a:rPr>
              <a:t>not helping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 may feel ashamed (I should have help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mething bad will ‘be our fault’ (The victim may di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possible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rewards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for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helping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cial approval (thanks from victim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lf- esteem (feeling good about oneself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ositive emotional response  (feelings of elation and gladnes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result of our ‘analysis’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the rewards for helping outweigh the costs of not helping ….. we are likely to act in a pro-social manner  (i.e., hel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metho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eld Experi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loc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New York Subway (underground  train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 ….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48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en  and where?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8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103 ‘experimental trials’ took place)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8480" indent="-348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tween 11.00am and 3.00pm over a period of two months in 196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8480" indent="-348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 trains between 59th &amp; 125th stre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8480" indent="-348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stops,  journey time 8 minu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 participant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timated as 4450 travellers on the trai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45% black and 55%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verage number in a carriage was 4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verage no in ‘the critical area’ was 8.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 ……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was done by who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ams of 4 student experimen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two male / two femal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le actors (victim and mode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emales were observer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did they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70 seconds after train left station the              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ictim pretended to collap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ited for ‘help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no-one ‘helped’ the ‘model’ helped the victim off at the next sto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91628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7274160" cy="312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2708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Experiment Carriage lay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was an experime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were the IVs (independent variabl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26920" y="3932280"/>
            <a:ext cx="1719360" cy="237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771640" y="3932280"/>
            <a:ext cx="2305080" cy="185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35640" y="3932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Is altruism possible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Freud &amp; the 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perates on the pleasure principl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 helping behaviour be motivated by our  desire for pleasur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781360"/>
            <a:ext cx="8134200" cy="37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 experimental condition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V Victims were either black or white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d aged 26 - 3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V Victims carried bottle &amp; smelled of alcohol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drunk condition)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arried a cane (lame condition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models were all white aged 24 - 2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observers recorded the race, age, sex, 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cation of ‘helper’ passeng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o helped in which condi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so – who said what and who moved awa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 62 of 65 trials the ‘cane’ victim was helped immedia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 19 out of 38 trials the ‘drunk’ victim was helped immedia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f 81 trials onc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on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 helped others did so to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at sort of people help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les more than fema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same ‘race’ helpers in drunk cond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ow many people left the critical are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1 of 103 trials 34 people moved a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e in the drunk cond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e was no diffusion of responsi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te:   people could not ‘get away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onclusion (1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diffusion of responsibility hypothesis not suppor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more people there were the more they help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onclusion (2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emergency created a ‘state of emotional arousal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rousal heightened b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mpathy with victi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ing close to situ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ength of time of emerg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 </a:t>
            </a:r>
            <a:br>
              <a:rPr sz="3600"/>
            </a:b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44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arousal state will be interpreted as fear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4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mpathy or disgu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4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4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an be reduced b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4880" indent="-344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ving awa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4880" indent="-344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elp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4880" indent="-344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ciding the victim is undeserving of hel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 </a:t>
            </a:r>
            <a:br>
              <a:rPr sz="3600"/>
            </a:b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iliavin et al give a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w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factor model of helping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vel of emotional arousal (empathy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esult of a cost: benefit analys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us low empathy + high cost may predict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elp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br>
              <a:rPr sz="3200"/>
            </a:b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racteristics and situation of the victim may contribute to the our decision as to whether we help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Is altruism possible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behaviourists &amp; reinforc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 behaviour is reinforced (shaped) by pleasur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 we feel pleasure when we help other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field experimen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it ethical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d it have ecological valid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Piliavin, Rodin and Piliavi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ad th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topic ‘pro-social’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2305080" cy="1852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1719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Is altruism possible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 Social Learning approac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 learn to be unselfish and to help others by watching others helping (and by being rewarded when we cop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Good Samarita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Ques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y do we sometimes help other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n may we not help other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triggered psychological research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Strange case of  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Kitty Genoves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tane &amp; Darley (196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8 witnesses &amp; no-one helped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Wh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e unresponsive bystand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ffusion of responsibi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Question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conditions make it prob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at we will help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at we will look the other wa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Latane &amp; Darley </a:t>
            </a:r>
            <a:br>
              <a:rPr sz="3200"/>
            </a:b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The 5 steps to helping behaviour      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must notice the ev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must interpret the event as an emergenc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must assume personal responsi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must choose a way to hel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must implement the dec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negative response at any of these 5 stages means that the bystander will fail to interven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11:31:02Z</dcterms:modified>
  <cp:revision>6</cp:revision>
  <dc:subject/>
  <dc:title>Slide 1</dc:title>
</cp:coreProperties>
</file>