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LASER.WAV" ContentType="audio/x-wav"/>
  <Override PartName="/ppt/media/image14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7.jpeg" ContentType="image/jpeg"/>
  <Override PartName="/ppt/media/image11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D4E9-6FC8-439B-8FF6-7169FC7D2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0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4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6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0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4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500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004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6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500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004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79064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2155680" indent="-18576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541600" indent="-20628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541600" indent="-206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541600" indent="-206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lvl="1" marL="1983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458640" indent="97632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708120" indent="126180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895320" indent="1440000" algn="ctr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AS Psychology</a:t>
            </a:r>
            <a:br>
              <a:rPr sz="5100"/>
            </a:b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The Core studies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ndividual Differences approach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&amp; Psychodynamic perspectiv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Freud’s psychodynamic theory of  personality     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tripartite structure of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g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upereg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03640" y="3213000"/>
            <a:ext cx="2667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case stu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 personality disor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gpen &amp; Cleckley (1954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92720" y="2997360"/>
            <a:ext cx="288144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s is a case stu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record of a therapeutic proce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o were Thigpen &amp; Cleckle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y were psychiatrists (medically qualifi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ir paper was published in the Journal of abnormal &amp; social psychology (1954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o wa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v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25 year old woman who was referred because of her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re &amp; blinding headaches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spells of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mnesi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igpen &amp; Cleckley tested her with Psychometric tests, projective tes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In the initial interviews (Eve Whit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ve complained of (symptom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linding Headach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lackou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rital Proble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sonal problem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at was Eve White lik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Q score 1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mory - excell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pressive 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ervative, shy, dutifu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ving wife and moth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Then What Happen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Eve Whi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showed amnesia for a recent trip and wa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ypnotise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in order to restore her mem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156360" y="2565360"/>
            <a:ext cx="21607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155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1155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115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115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Then What Happen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First sign of something odd!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 letter arrived which was written in two kinds of handwriting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1861920"/>
            <a:ext cx="810432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</a:t>
            </a:r>
            <a:br>
              <a:rPr sz="3600"/>
            </a:b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9680" y="3499920"/>
            <a:ext cx="8134200" cy="29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lette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objective evidenc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23079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What </a:t>
            </a:r>
            <a:r>
              <a:rPr b="1" lang="en-US" sz="3600" spc="-1" strike="noStrike" u="sng">
                <a:solidFill>
                  <a:srgbClr val="e89d00"/>
                </a:solidFill>
                <a:uFillTx/>
                <a:latin typeface="Arial"/>
              </a:rPr>
              <a:t>is</a:t>
            </a: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rite a definition of what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think personality means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What did Eve say about the letter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he denied writing it, though she did say she ha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gun a letter which she had not finish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What happened the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became distressed and asked “whether hearing voices in her head meant she was insane”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he said that she had heard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 voice in her hea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speaking to h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is was a critical intervie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veral times she put her hand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 her head as if in pai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nd then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61080" y="2997360"/>
            <a:ext cx="1316160" cy="165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300720" y="3860640"/>
            <a:ext cx="1316160" cy="1656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093080" y="4579920"/>
            <a:ext cx="13158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e Transformation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White changed and became Eve Black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st ‘alter-ego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356000" y="4221000"/>
            <a:ext cx="847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156360" y="4654440"/>
            <a:ext cx="102852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093 C -0.00763 0.00971 -0.01666 0.02035 -0.02065 0.03376 C -0.02465 0.04833 -0.02673 0.06568 -0.02864 0.08302 C -0.03072 0.10037 -0.02864 0.11494 -0.02673 0.13089 C -0.02465 0.1457 -0.0217 0.16165 -0.01458 0.17483 C -0.00868 0.18825 0.00139 0.19889 0.01233 0.20698 C 0.0224 0.21484 0.03438 0.22016 0.04636 0.22294 C 0.05834 0.22548 0.07032 0.22548 0.08143 0.22294 C 0.09341 0.22016 0.10435 0.21346 0.11337 0.20282 C 0.1224 0.19357 0.13039 0.18154 0.13438 0.16697 C 0.13941 0.15356 0.14132 0.13506 0.14132 0.12026 C 0.14237 0.10569 0.14132 0.08834 0.13629 0.07377 C 0.13143 0.06036 0.1224 0.04972 0.11042 0.0444 C 0.09827 0.04047 0.08629 0.04579 0.0783 0.05504 C 0.07136 0.06429 0.06632 0.07909 0.06528 0.0962 C 0.06528 0.11355 0.06632 0.12951 0.07136 0.14292 C 0.07639 0.15633 0.07535 0.15888 0.09532 0.17622 C 0.11337 0.19496 0.13143 0.18964 0.14237 0.19079 C 0.1533 0.19079 0.16233 0.18547 0.17327 0.18015 C 0.18542 0.17368 0.19532 0.16165 0.20244 0.15101 C 0.20938 0.14038 0.21233 0.12696 0.21632 0.10569 C 0.21928 0.08441 0.21928 0.07377 0.21928 0.05758 C 0.21928 0.04162 0.21928 0.02567 0.21928 0.00971 E">
                                      <p:cBhvr>
                                        <p:cTn id="22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66"/>
                </a:solidFill>
                <a:latin typeface="Arial"/>
              </a:rPr>
              <a:t>The Transformation!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66"/>
                </a:solidFill>
                <a:latin typeface="Arial"/>
              </a:rPr>
              <a:t>The therapist noted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66"/>
                </a:solidFill>
                <a:latin typeface="Arial"/>
              </a:rPr>
              <a:t>A quick reckless smile…”</a:t>
            </a:r>
            <a:r>
              <a:rPr b="1" lang="en-GB" sz="2700" spc="-1" strike="noStrike">
                <a:solidFill>
                  <a:srgbClr val="000066"/>
                </a:solidFill>
                <a:latin typeface="Arial"/>
              </a:rPr>
              <a:t>hi doc</a:t>
            </a:r>
            <a:r>
              <a:rPr b="0" lang="en-GB" sz="27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66"/>
                </a:solidFill>
                <a:latin typeface="Arial"/>
              </a:rPr>
              <a:t>Eve White now displayed a childishly daredevil air, an erotic glance, even her sitting posture changed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66"/>
                </a:solidFill>
                <a:latin typeface="Arial"/>
              </a:rPr>
              <a:t>Eve White became Eve Black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What was Eve Black lik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Q score 10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mory - po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ressive 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ildish, extrovert, mischievou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nied being a wife &amp; moth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therapy lasted 14 months and 100 hours of interview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Black would sometimes ‘appear’ but could only be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called ou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under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ypnosi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White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as not awar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f Eve Blac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Black was aware of Eve Whi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Black had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existe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since childhoo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Black - “would emerge, would behave badly and then retreat and let Eve White take the blame…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(parents verified incident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How T &amp; C described Eve Blac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ildish, irresponsible &amp; shall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eking pleasure &amp; excite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nied marriage to EW’s husband (whom she despis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nied relationship with EW’s daught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Did her family not notice anything od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en they observed EB they put her harshness &amp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ggression down to ‘occasional temper tantrums i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 normally gentle woma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What </a:t>
            </a:r>
            <a:r>
              <a:rPr b="1" lang="en-US" sz="3600" spc="-1" strike="noStrike" u="sng">
                <a:solidFill>
                  <a:srgbClr val="e89d00"/>
                </a:solidFill>
                <a:uFillTx/>
                <a:latin typeface="Arial"/>
              </a:rPr>
              <a:t>is</a:t>
            </a: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sonality is a hypothetical construct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can never observe o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can only infer personality from behaviou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How did the therapists measure the variables of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9680" y="3284640"/>
            <a:ext cx="81342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ersonality tests (psychometric test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orschach ink blot tes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W = repressive (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Freu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B = regressive (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Freu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lectroencephalograms (EEG) to record brain activity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9680" y="162864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How did the therapists measure the variables of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00040" y="2923920"/>
            <a:ext cx="3990960" cy="35607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2995560"/>
            <a:ext cx="81360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orschach ink blot test = a projective te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39640" y="3573360"/>
            <a:ext cx="3600720" cy="2706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427640" y="3500280"/>
            <a:ext cx="43210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Discu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What do you se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s what you see a projection of your unconscious mi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s this a quantitative or qualitative meas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How valid is this meas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4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7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How did the therapists measure the variables of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0040" y="2923920"/>
            <a:ext cx="3990960" cy="3560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42472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matic Apperception Test = a projective te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27640" y="3429000"/>
            <a:ext cx="431964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Write a storyline for the p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What has been happe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What is happe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What will ha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s your story a projection of your unconscious fears/desi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How valid is this meas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8191" t="0" r="8370" b="0"/>
          <a:stretch/>
        </p:blipFill>
        <p:spPr>
          <a:xfrm>
            <a:off x="336600" y="3213000"/>
            <a:ext cx="367200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5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As treatment progressed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W headaches recurred &amp; got wor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lackouts increas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oth EW &amp; EW denied awareness in these blackou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W state of mind deteriorated (confinement was consider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en what happen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Another personality appears!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A Third Personalit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alled herself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Ja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ane had full awareness of EW and EB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either EW nor EB were aware of Ja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What did Thigpen &amp; Cleckley do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ll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re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personalities were tested by electroencephalogra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Clear differences were record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rapy continued to treat all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re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women in the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n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bo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The decision of </a:t>
            </a:r>
            <a:br>
              <a:rPr sz="3200"/>
            </a:b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Thigpen &amp; Cleckley</a:t>
            </a: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ane seemed to be the pers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st likely to bring a solu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 the troubled min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he was increasingly dominan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ver the other personalit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796000" y="1844640"/>
            <a:ext cx="24480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moral dilemma (ethics)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y noted the moral probl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problem of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killing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ne or more of the personalit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Other explanations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as the woman a very good actress (were T &amp; C conned?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as the woman psychotic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(schizophrenic?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uld the hypnotism have caused the multiple personality effec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What did T &amp; C conclude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y did wonder whether they had become so involved that they ‘lost their sense of judgement and over dramatised the case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y remain convinced that they witnessed a case of multiple 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Note: A film was made!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What </a:t>
            </a:r>
            <a:r>
              <a:rPr b="1" lang="en-US" sz="3600" spc="-1" strike="noStrike" u="sng">
                <a:solidFill>
                  <a:srgbClr val="e89d00"/>
                </a:solidFill>
                <a:uFillTx/>
                <a:latin typeface="Arial"/>
              </a:rPr>
              <a:t>is</a:t>
            </a: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sonality is not a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thing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but  can only be inferred from how we interact with other people and generally deal with the worl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Another strange cas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multiple personalities of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Sybi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(see Schreiber 1973)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ck to the question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What  do we mean by personalit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personality a stable trai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do we mean b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ot like himself/herself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/he’s a changed pers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cting out of charact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Three faces of Eve - postscrip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 1975 a woman came forward and said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she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as Eve Whi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aid she had experienced many other personalities both before therapy and since (22 in all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at the fragmentation of her personality had been to protect herself from ‘unbearable experiences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Ethical problem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Killing one/more of the personalities -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should decide thi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king a film for profit -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benefits  &amp; what about patient confidentialit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uring the treatment Eve White got worse.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‘Who’ gives informed consent for the treatment procedures 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Ethical problem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ich personality do you think T &amp; C approved of mos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ight there be a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culture &amp; gender bia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issue here? Were their judgements biased by the ‘social norms’ of the 1950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Questions you should be able to answer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41280" indent="-3412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at were the similarities &amp; differences between Eve White and Eve Blac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is the main difference between multiple personality disorder &amp; schizophrenia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at problems with the case study method does this study highligh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factor(s) may have influenced their diagnosis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A question to think abou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f Eysenck’s theory of biological basis for personality is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correc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could Eve have had multiple personalitie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te: These days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P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is called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DI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Disassociative Identity Disorde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Multiple Personality Disorder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9680" y="2636640"/>
            <a:ext cx="8134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Frequency distribu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4 cases between 1944 - 1969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50 cases in the 1970s ! (6 by Sybil’s therapist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n more in the 1980s (an epidemic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rise &amp; fall correlates with the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mpact of Freud’s psychoanalytic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ostly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in the USA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443640" y="4581360"/>
            <a:ext cx="187164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re is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no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universally accepted definition even among psychiatrists in the US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ad the study &amp; read up about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ypnotism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– is this an altered state of consciousness or an extreme case of demand characteristic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raw up a table of similarities and differences between EW, EB and Ja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What </a:t>
            </a:r>
            <a:r>
              <a:rPr b="1" lang="en-US" sz="3600" spc="-1" strike="noStrike" u="sng">
                <a:solidFill>
                  <a:srgbClr val="e89d00"/>
                </a:solidFill>
                <a:uFillTx/>
                <a:latin typeface="Arial"/>
              </a:rPr>
              <a:t>is</a:t>
            </a: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aron &amp; Byrne (1991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ersonality is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……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e combination of those relatively enduring TRAITS which influence behaviour in a predictable way in a variety of situation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…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rait theories of personalit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ysenck (1953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introvert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 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typical introvert is quiet, retiring, introspective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nd of books rather than of people, reserved &amp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ta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22338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rait theories of personality..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ysenck (1953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Extrovert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 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typical extrovert is sociable, likes parties, ha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y friends, needs people to talk to, crav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citement, and likes change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21607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</a:t>
            </a:r>
            <a:r>
              <a:rPr b="1" lang="en-GB" sz="3600" spc="-1" strike="noStrike" u="sng">
                <a:solidFill>
                  <a:srgbClr val="e89d00"/>
                </a:solidFill>
                <a:uFillTx/>
                <a:latin typeface="Arial"/>
              </a:rPr>
              <a:t>biological</a:t>
            </a: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 basis for personalit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Eysen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iological differences in nervous syste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troverts have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trong nervous system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hich tend to damp down incoming sensory data - thus they are under aroused and need to ‘arouse themselves’ with activity’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roverts have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ensitive nervous system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hich amplify incoming sensory data, thus they need to ‘reduce sensory input’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Personality trait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oes the Eysenck theory of a biological basis f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ersonality predict 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Stabl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personality trait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Variabl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personality trait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is is a reductionist theory of persona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at do we mean by ‘reductionist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20:08:06Z</dcterms:created>
  <dc:creator>Pete</dc:creator>
  <dc:description/>
  <dc:language>en-US</dc:language>
  <cp:lastModifiedBy>Lior Erez</cp:lastModifiedBy>
  <dcterms:modified xsi:type="dcterms:W3CDTF">2010-05-10T15:05:36Z</dcterms:modified>
  <cp:revision>7</cp:revision>
  <dc:subject/>
  <dc:title>Slide 1</dc:title>
</cp:coreProperties>
</file>