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11.jpeg" ContentType="image/jpeg"/>
  <Override PartName="/ppt/media/WHOOSH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99680" y="3212640"/>
            <a:ext cx="8134200" cy="156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9680" y="4921920"/>
            <a:ext cx="8134200" cy="156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9680" y="3212640"/>
            <a:ext cx="3969360" cy="156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7760" y="3212640"/>
            <a:ext cx="3969360" cy="156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99680" y="4921920"/>
            <a:ext cx="3969360" cy="156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67760" y="4921920"/>
            <a:ext cx="3969360" cy="156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99680" y="3212640"/>
            <a:ext cx="2619000" cy="156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50080" y="3212640"/>
            <a:ext cx="2619000" cy="156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00480" y="3212640"/>
            <a:ext cx="2619000" cy="156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9680" y="4921920"/>
            <a:ext cx="2619000" cy="156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50080" y="4921920"/>
            <a:ext cx="2619000" cy="156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00480" y="4921920"/>
            <a:ext cx="2619000" cy="156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99680" y="3212640"/>
            <a:ext cx="8134200" cy="32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99680" y="3212640"/>
            <a:ext cx="8134200" cy="32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99680" y="3212640"/>
            <a:ext cx="3969360" cy="32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7760" y="3212640"/>
            <a:ext cx="3969360" cy="32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99680" y="1861920"/>
            <a:ext cx="8134200" cy="32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99680" y="3212640"/>
            <a:ext cx="3969360" cy="156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7760" y="3212640"/>
            <a:ext cx="3969360" cy="32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99680" y="4921920"/>
            <a:ext cx="3969360" cy="156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99680" y="3212640"/>
            <a:ext cx="8134200" cy="32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99680" y="3212640"/>
            <a:ext cx="3969360" cy="32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7760" y="3212640"/>
            <a:ext cx="3969360" cy="156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7760" y="4921920"/>
            <a:ext cx="3969360" cy="156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99680" y="3212640"/>
            <a:ext cx="3969360" cy="156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7760" y="3212640"/>
            <a:ext cx="3969360" cy="156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99680" y="4921920"/>
            <a:ext cx="8134200" cy="156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99680" y="3212640"/>
            <a:ext cx="8134200" cy="156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9680" y="4921920"/>
            <a:ext cx="8134200" cy="156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99680" y="3212640"/>
            <a:ext cx="3969360" cy="156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7760" y="3212640"/>
            <a:ext cx="3969360" cy="156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99680" y="4921920"/>
            <a:ext cx="3969360" cy="156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7760" y="4921920"/>
            <a:ext cx="3969360" cy="156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99680" y="3212640"/>
            <a:ext cx="2619000" cy="156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50080" y="3212640"/>
            <a:ext cx="2619000" cy="156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00480" y="3212640"/>
            <a:ext cx="2619000" cy="156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99680" y="4921920"/>
            <a:ext cx="2619000" cy="156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50080" y="4921920"/>
            <a:ext cx="2619000" cy="156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00480" y="4921920"/>
            <a:ext cx="2619000" cy="156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99680" y="3212640"/>
            <a:ext cx="8134200" cy="32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99680" y="3212640"/>
            <a:ext cx="3969360" cy="32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67760" y="3212640"/>
            <a:ext cx="3969360" cy="32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99680" y="1861920"/>
            <a:ext cx="8134200" cy="32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99680" y="3212640"/>
            <a:ext cx="3969360" cy="156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7760" y="3212640"/>
            <a:ext cx="3969360" cy="32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99680" y="4921920"/>
            <a:ext cx="3969360" cy="156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99680" y="3212640"/>
            <a:ext cx="3969360" cy="32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7760" y="3212640"/>
            <a:ext cx="3969360" cy="156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67760" y="4921920"/>
            <a:ext cx="3969360" cy="156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99680" y="3212640"/>
            <a:ext cx="3969360" cy="156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7760" y="3212640"/>
            <a:ext cx="3969360" cy="156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9680" y="4921920"/>
            <a:ext cx="8134200" cy="156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89d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9680" y="3212640"/>
            <a:ext cx="8134200" cy="32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marL="330480" indent="-3304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1004040" indent="-330480"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665000" indent="-3304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3" marL="2004480" indent="-172440"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4" marL="2363400" indent="-191520">
              <a:spcBef>
                <a:spcPts val="700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5" marL="2363400" indent="-19152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6" marL="2363400" indent="-19152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99680" y="1773000"/>
            <a:ext cx="8134200" cy="181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e89d00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  <a:p>
            <a:pPr lvl="1" marL="19836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2" marL="458640" indent="976320" algn="ctr"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3" marL="708120" indent="1261800" algn="ctr">
              <a:spcBef>
                <a:spcPts val="451"/>
              </a:spcBef>
              <a:buClr>
                <a:srgbClr val="000066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4" marL="895320" indent="1440000" algn="ctr">
              <a:spcBef>
                <a:spcPts val="400"/>
              </a:spcBef>
              <a:buClr>
                <a:srgbClr val="000066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5" marL="895320" indent="14400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6" marL="895320" indent="14400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image" Target="../media/image8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99680" y="1773000"/>
            <a:ext cx="8134200" cy="181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100" spc="-1" strike="noStrike">
                <a:solidFill>
                  <a:srgbClr val="e89d00"/>
                </a:solidFill>
                <a:latin typeface="Arial"/>
              </a:rPr>
              <a:t>AS Level Psychology</a:t>
            </a:r>
            <a:br>
              <a:rPr sz="5100"/>
            </a:br>
            <a:r>
              <a:rPr b="0" lang="en-GB" sz="5100" spc="-1" strike="noStrike">
                <a:solidFill>
                  <a:srgbClr val="e89d00"/>
                </a:solidFill>
                <a:latin typeface="Arial"/>
              </a:rPr>
              <a:t>The core studies</a:t>
            </a:r>
            <a:endParaRPr b="0" lang="en-US" sz="51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499680" y="3789360"/>
            <a:ext cx="81342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ffffff"/>
                </a:solidFill>
                <a:latin typeface="Arial"/>
              </a:rPr>
              <a:t>The developmental approach &amp; The psychodynamic perspective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000" y="155700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e89d00"/>
                </a:solidFill>
                <a:latin typeface="Arial"/>
              </a:rPr>
              <a:t>The tripartite structure of personality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8000" y="2781000"/>
            <a:ext cx="215892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The psychological apparatu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2700360" y="2349360"/>
            <a:ext cx="3181320" cy="42483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6156360" y="2349360"/>
            <a:ext cx="2592360" cy="1871640"/>
          </a:xfrm>
          <a:prstGeom prst="wedgeRectCallout">
            <a:avLst>
              <a:gd name="adj1" fmla="val -100337"/>
              <a:gd name="adj2" fmla="val 39824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nly the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Ego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is in the </a:t>
            </a: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consciou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mi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We can talk about  experiences in the conscious mi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227640" y="4869000"/>
            <a:ext cx="2470320" cy="1655640"/>
          </a:xfrm>
          <a:prstGeom prst="wedgeRectCallout">
            <a:avLst>
              <a:gd name="adj1" fmla="val -100708"/>
              <a:gd name="adj2" fmla="val -21523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The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Id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resides in the </a:t>
            </a: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unconsci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We can’t talk about experiences in the unconscious mi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1" dur="3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3000"/>
                            </p:stCondLst>
                            <p:childTnLst>
                              <p:par>
                                <p:cTn id="9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3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3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6000"/>
                            </p:stCondLst>
                            <p:childTnLst>
                              <p:par>
                                <p:cTn id="9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3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3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e89d00"/>
                </a:solidFill>
                <a:latin typeface="Arial"/>
              </a:rPr>
              <a:t>The tripartite personality</a:t>
            </a:r>
            <a:br>
              <a:rPr sz="3600"/>
            </a:br>
            <a:r>
              <a:rPr b="1" lang="en-GB" sz="3600" spc="-1" strike="noStrike">
                <a:solidFill>
                  <a:srgbClr val="e89d00"/>
                </a:solidFill>
                <a:latin typeface="Arial"/>
              </a:rPr>
              <a:t>Id &gt;&gt;&gt; Ego &lt;&lt;&lt; Superego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99680" y="3212640"/>
            <a:ext cx="8134200" cy="32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66"/>
                </a:solidFill>
                <a:uFillTx/>
                <a:latin typeface="Arial"/>
              </a:rPr>
              <a:t>Develop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 during </a:t>
            </a: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five 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psychosexual stages of developmen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89d00"/>
                </a:solidFill>
                <a:latin typeface="Arial"/>
              </a:rPr>
              <a:t>The </a:t>
            </a:r>
            <a:r>
              <a:rPr b="1" lang="en-US" sz="3600" spc="-1" strike="noStrike">
                <a:solidFill>
                  <a:srgbClr val="e89d00"/>
                </a:solidFill>
                <a:latin typeface="Arial"/>
              </a:rPr>
              <a:t>five</a:t>
            </a:r>
            <a:r>
              <a:rPr b="0" lang="en-US" sz="3600" spc="-1" strike="noStrike">
                <a:solidFill>
                  <a:srgbClr val="e89d00"/>
                </a:solidFill>
                <a:latin typeface="Arial"/>
              </a:rPr>
              <a:t> psychosexual stages   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99680" y="3212640"/>
            <a:ext cx="8134200" cy="32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e Oral (Birth - 1 year)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e Anal (1 - 3 years)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e Phallic (3 - 5/6 years)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e Latent  (6 - puberty)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e Genital (adulthood)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89d00"/>
                </a:solidFill>
                <a:latin typeface="Arial"/>
              </a:rPr>
              <a:t>Stage 1 - The </a:t>
            </a:r>
            <a:r>
              <a:rPr b="1" lang="en-US" sz="3600" spc="-1" strike="noStrike">
                <a:solidFill>
                  <a:srgbClr val="e89d00"/>
                </a:solidFill>
                <a:latin typeface="Arial"/>
              </a:rPr>
              <a:t>Oral</a:t>
            </a:r>
            <a:r>
              <a:rPr b="0" lang="en-US" sz="3600" spc="-1" strike="noStrike">
                <a:solidFill>
                  <a:srgbClr val="e89d00"/>
                </a:solidFill>
                <a:latin typeface="Arial"/>
              </a:rPr>
              <a:t> Stage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99680" y="3212640"/>
            <a:ext cx="8134200" cy="32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Mouth (sucking) is the source of pleasure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e Id is in contro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e89d00"/>
                </a:solidFill>
                <a:latin typeface="Arial"/>
              </a:rPr>
              <a:t>In the </a:t>
            </a:r>
            <a:r>
              <a:rPr b="1" lang="en-GB" sz="3600" spc="-1" strike="noStrike">
                <a:solidFill>
                  <a:srgbClr val="e89d00"/>
                </a:solidFill>
                <a:latin typeface="Arial"/>
              </a:rPr>
              <a:t>Oral</a:t>
            </a:r>
            <a:r>
              <a:rPr b="0" lang="en-GB" sz="3600" spc="-1" strike="noStrike">
                <a:solidFill>
                  <a:srgbClr val="e89d00"/>
                </a:solidFill>
                <a:latin typeface="Arial"/>
              </a:rPr>
              <a:t> Stage …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68000" y="2781360"/>
            <a:ext cx="8134200" cy="32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ixation may be caused by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Over indulgence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1079640" indent="-355680">
              <a:spcBef>
                <a:spcPts val="601"/>
              </a:spcBef>
              <a:buClr>
                <a:srgbClr val="0000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ymptoms may include selfishness or compulsive talking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rustration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1079640" indent="-355680">
              <a:spcBef>
                <a:spcPts val="601"/>
              </a:spcBef>
              <a:buClr>
                <a:srgbClr val="0000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ymptoms may include nail biting, thumb sucking, greed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89d00"/>
                </a:solidFill>
                <a:latin typeface="Arial"/>
              </a:rPr>
              <a:t>Stage 2 - The </a:t>
            </a:r>
            <a:r>
              <a:rPr b="1" lang="en-US" sz="3600" spc="-1" strike="noStrike">
                <a:solidFill>
                  <a:srgbClr val="e89d00"/>
                </a:solidFill>
                <a:latin typeface="Arial"/>
              </a:rPr>
              <a:t>Anal</a:t>
            </a:r>
            <a:r>
              <a:rPr b="0" lang="en-US" sz="3600" spc="-1" strike="noStrike">
                <a:solidFill>
                  <a:srgbClr val="e89d00"/>
                </a:solidFill>
                <a:latin typeface="Arial"/>
              </a:rPr>
              <a:t> Stage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99680" y="3212640"/>
            <a:ext cx="8134200" cy="32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Elimination of faeces is the source of pleasure !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e Ego develops (the reality principle)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305920" y="54770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e89d00"/>
                </a:solidFill>
                <a:latin typeface="Arial"/>
              </a:rPr>
              <a:t>In the </a:t>
            </a:r>
            <a:r>
              <a:rPr b="1" lang="en-GB" sz="3600" spc="-1" strike="noStrike">
                <a:solidFill>
                  <a:srgbClr val="e89d00"/>
                </a:solidFill>
                <a:latin typeface="Arial"/>
              </a:rPr>
              <a:t>Anal</a:t>
            </a:r>
            <a:r>
              <a:rPr b="0" lang="en-GB" sz="3600" spc="-1" strike="noStrike">
                <a:solidFill>
                  <a:srgbClr val="e89d00"/>
                </a:solidFill>
                <a:latin typeface="Arial"/>
              </a:rPr>
              <a:t> Stage …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99680" y="3212640"/>
            <a:ext cx="8134200" cy="32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-3556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ixation (a) Anal expulsive: 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ymptoms may be giving to charity, potters, gardeners, (sublimating the wish to smear)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ixation (b) Anal retentive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ymptoms may be miserly, thrifty, orderly, obstinate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e89d00"/>
                </a:solidFill>
                <a:latin typeface="Arial"/>
              </a:rPr>
              <a:t>Stage 3 : The </a:t>
            </a:r>
            <a:r>
              <a:rPr b="1" lang="en-GB" sz="3600" spc="-1" strike="noStrike">
                <a:solidFill>
                  <a:srgbClr val="e89d00"/>
                </a:solidFill>
                <a:latin typeface="Arial"/>
              </a:rPr>
              <a:t>Phallic</a:t>
            </a:r>
            <a:r>
              <a:rPr b="0" lang="en-GB" sz="3600" spc="-1" strike="noStrike">
                <a:solidFill>
                  <a:srgbClr val="e89d00"/>
                </a:solidFill>
                <a:latin typeface="Arial"/>
              </a:rPr>
              <a:t> Stage 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99680" y="3212640"/>
            <a:ext cx="8134200" cy="32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The Superego develops when: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1079640" indent="-355680">
              <a:spcBef>
                <a:spcPts val="601"/>
              </a:spcBef>
              <a:buClr>
                <a:srgbClr val="0000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The Oedipus conflict (boys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1079640" indent="-355680">
              <a:spcBef>
                <a:spcPts val="601"/>
              </a:spcBef>
              <a:buClr>
                <a:srgbClr val="0000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The Electra conflict (girls)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           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is resolved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e89d00"/>
                </a:solidFill>
                <a:latin typeface="Arial"/>
              </a:rPr>
              <a:t>In the </a:t>
            </a:r>
            <a:r>
              <a:rPr b="1" lang="en-GB" sz="3600" spc="-1" strike="noStrike">
                <a:solidFill>
                  <a:srgbClr val="e89d00"/>
                </a:solidFill>
                <a:latin typeface="Arial"/>
              </a:rPr>
              <a:t>Phallic</a:t>
            </a:r>
            <a:r>
              <a:rPr b="0" lang="en-GB" sz="3600" spc="-1" strike="noStrike">
                <a:solidFill>
                  <a:srgbClr val="e89d00"/>
                </a:solidFill>
                <a:latin typeface="Arial"/>
              </a:rPr>
              <a:t> Stage….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99680" y="3212640"/>
            <a:ext cx="8134200" cy="32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Fixation may be caused by failure to resolve the Oedipus / Electra conflic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Symptoms include: curiosity, exhibitionism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1079640" indent="-355680">
              <a:spcBef>
                <a:spcPts val="601"/>
              </a:spcBef>
              <a:buClr>
                <a:srgbClr val="0000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a surgeon may be sublimating hostile feelings towards same sex paren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1079640" indent="-355680">
              <a:spcBef>
                <a:spcPts val="601"/>
              </a:spcBef>
              <a:buClr>
                <a:srgbClr val="0000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Writer of pornography may be sublimating sexual preoccupation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e89d00"/>
                </a:solidFill>
                <a:latin typeface="Arial"/>
              </a:rPr>
              <a:t>Sigmund Freud (1909)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99680" y="3212640"/>
            <a:ext cx="8134200" cy="32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The analysis of a phobia of a five year old boy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The case study of </a:t>
            </a:r>
            <a:r>
              <a:rPr b="1" lang="en-GB" sz="2800" spc="-1" strike="noStrike" u="sng">
                <a:solidFill>
                  <a:srgbClr val="000066"/>
                </a:solidFill>
                <a:uFillTx/>
                <a:latin typeface="Arial"/>
              </a:rPr>
              <a:t>Little Han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e89d00"/>
                </a:solidFill>
                <a:latin typeface="Arial"/>
              </a:rPr>
              <a:t>AS Psychology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0040" y="3212640"/>
            <a:ext cx="3990960" cy="32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-355680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Developmental Psychology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Sigmund Freud (1909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4643280" y="3212640"/>
            <a:ext cx="3990960" cy="327204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4643280" y="3213000"/>
            <a:ext cx="3211560" cy="324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e89d00"/>
                </a:solidFill>
                <a:latin typeface="Arial"/>
              </a:rPr>
              <a:t>Little Hans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99680" y="3212640"/>
            <a:ext cx="8134200" cy="32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This is the </a:t>
            </a:r>
            <a:r>
              <a:rPr b="1" lang="en-GB" sz="2800" spc="-1" strike="noStrike" u="sng">
                <a:solidFill>
                  <a:srgbClr val="000066"/>
                </a:solidFill>
                <a:uFillTx/>
                <a:latin typeface="Arial"/>
              </a:rPr>
              <a:t>only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 case study of a child undertaken by Freud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Freud’s ideas about infant sexuality were based on his work with adult women (and his own self analysis)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e89d00"/>
                </a:solidFill>
                <a:latin typeface="Arial"/>
              </a:rPr>
              <a:t>Little Hans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99680" y="3212640"/>
            <a:ext cx="8134200" cy="32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The longitudinal case study 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(psychoanalytic therapy) was carried out by correspondence and interviews with Hans’ father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First reports when Hans was three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e89d00"/>
                </a:solidFill>
                <a:latin typeface="Arial"/>
              </a:rPr>
              <a:t>Little Hans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99680" y="3212640"/>
            <a:ext cx="8134200" cy="32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Hans was very interested in his ‘widdler’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His mother told him </a:t>
            </a:r>
            <a:r>
              <a:rPr b="0" i="1" lang="en-GB" sz="2800" spc="-1" strike="noStrike">
                <a:solidFill>
                  <a:srgbClr val="000066"/>
                </a:solidFill>
                <a:latin typeface="Arial"/>
              </a:rPr>
              <a:t>“not to play with your widdler .. or else she would call the doctor to come and cut it off”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Hans’ mother threatened to leave him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e89d00"/>
                </a:solidFill>
                <a:latin typeface="Arial"/>
              </a:rPr>
              <a:t>Little Hans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99680" y="3212640"/>
            <a:ext cx="8134200" cy="32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Hans’ baby sister was born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He was told the stork had </a:t>
            </a:r>
            <a:br>
              <a:rPr sz="2800"/>
            </a:b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brought the baby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Early jealousy of sister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Continued interest in his widdler, according to father his dreams and fantasies were of widdlers and of ‘widdling’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5508720" y="2205000"/>
            <a:ext cx="259380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3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3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e89d00"/>
                </a:solidFill>
                <a:latin typeface="Arial"/>
              </a:rPr>
              <a:t>Little Hans 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99680" y="3212640"/>
            <a:ext cx="8134200" cy="32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When Hans was five - father wrote to Freud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Hans is afraid of horses, afraid a horse will bite him in the street,  this fear seems to be connected to his being frightened by a large penis” 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3995640" y="5157720"/>
            <a:ext cx="1121040" cy="119556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5580000" y="5157720"/>
            <a:ext cx="1120680" cy="119556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093080" y="5157720"/>
            <a:ext cx="1120680" cy="11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6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2000"/>
                            </p:stCondLst>
                            <p:childTnLst>
                              <p:par>
                                <p:cTn id="12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0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4000"/>
                            </p:stCondLst>
                            <p:childTnLst>
                              <p:par>
                                <p:cTn id="13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4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e89d00"/>
                </a:solidFill>
                <a:latin typeface="Arial"/>
              </a:rPr>
              <a:t>Little Hans   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99680" y="3212640"/>
            <a:ext cx="8134200" cy="32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Freud &amp; father try to make sense of what Hans was experiencing and to resolve his phobia of horse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Freud noted that Hans’ fear of horses developed after the child had anxiety dreams of losing his mother </a:t>
            </a:r>
            <a:r>
              <a:rPr b="1" lang="en-GB" sz="2800" spc="-1" strike="noStrike" u="sng">
                <a:solidFill>
                  <a:srgbClr val="000066"/>
                </a:solidFill>
                <a:uFillTx/>
                <a:latin typeface="Arial"/>
              </a:rPr>
              <a:t>and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 after he has been warned not to play with his widdler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99680" y="1699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e89d00"/>
                </a:solidFill>
                <a:latin typeface="Arial"/>
              </a:rPr>
              <a:t>Little Hans: Dreams and fantasies   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500040" y="3212640"/>
            <a:ext cx="3990960" cy="327204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68360" y="2421000"/>
            <a:ext cx="669744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-355680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Hans dream of three giraffe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468360" y="2852640"/>
            <a:ext cx="4895640" cy="36720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5435640" y="2924280"/>
            <a:ext cx="3348000" cy="35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"/>
              </a:rPr>
              <a:t>The scene in marital bed in the mor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  <a:ea typeface="Arial"/>
              </a:rPr>
              <a:t>The big giraffe = dadd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  <a:ea typeface="Arial"/>
              </a:rPr>
              <a:t>The crumpled giraffe = mumm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  <a:ea typeface="Arial"/>
              </a:rPr>
              <a:t>The little giraffe = Hans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8" dur="5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5000"/>
                            </p:stCondLst>
                            <p:childTnLst>
                              <p:par>
                                <p:cTn id="15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2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99680" y="1699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e89d00"/>
                </a:solidFill>
                <a:latin typeface="Arial"/>
              </a:rPr>
              <a:t>Little Hans: Dreams and fantasies   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500040" y="3212640"/>
            <a:ext cx="3990960" cy="327204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68360" y="2421000"/>
            <a:ext cx="8136000" cy="10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-355680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Hans fear of being drowned in the bath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788000" y="3270240"/>
            <a:ext cx="3924360" cy="28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  <a:ea typeface="Arial"/>
              </a:rPr>
              <a:t>Hans began to fear having a ba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  <a:ea typeface="Arial"/>
              </a:rPr>
              <a:t>He was afraid his mother would drown hi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  <a:ea typeface="Arial"/>
              </a:rPr>
              <a:t>Freud suggested this was a projection of his unconscious wish that his mother drown his baby si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468360" y="3270240"/>
            <a:ext cx="4248000" cy="2967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3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3000"/>
                            </p:stCondLst>
                            <p:childTnLst>
                              <p:par>
                                <p:cTn id="16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3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e89d00"/>
                </a:solidFill>
                <a:latin typeface="Arial"/>
              </a:rPr>
              <a:t>Little Hans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9680" y="3212640"/>
            <a:ext cx="8134200" cy="32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Hans dreams about a giraffe were explained as ‘fear of big penis’ (long neck = big penis)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7906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Freud theorised that Hans’ fear of horses was really fear of father (Horse = symbolic for father)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10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e89d00"/>
                </a:solidFill>
                <a:latin typeface="Arial"/>
              </a:rPr>
              <a:t>Little Hans: Dreams and fantasies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0040" y="3212640"/>
            <a:ext cx="3990960" cy="32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-355680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Hans dreamed that a plumber came and gave him a bigger bottom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4643280" y="3212640"/>
            <a:ext cx="3990960" cy="327204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3"/>
          <a:stretch/>
        </p:blipFill>
        <p:spPr>
          <a:xfrm>
            <a:off x="5076720" y="3213000"/>
            <a:ext cx="2880000" cy="2880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0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3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3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4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9640" y="1412640"/>
            <a:ext cx="813456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e89d00"/>
                </a:solidFill>
                <a:latin typeface="Arial"/>
              </a:rPr>
              <a:t>Freud’s consulting room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499680" y="3212640"/>
            <a:ext cx="8134200" cy="32720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1403280" y="1982880"/>
            <a:ext cx="6624720" cy="466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e89d00"/>
                </a:solidFill>
                <a:latin typeface="Arial"/>
              </a:rPr>
              <a:t>Little Hans</a:t>
            </a:r>
            <a:r>
              <a:rPr b="0" lang="en-GB" sz="3600" spc="-1" strike="noStrike">
                <a:solidFill>
                  <a:srgbClr val="e89d00"/>
                </a:solidFill>
                <a:latin typeface="Arial"/>
              </a:rPr>
              <a:t>	</a:t>
            </a:r>
            <a:r>
              <a:rPr b="0" lang="en-GB" sz="3600" spc="-1" strike="noStrike">
                <a:solidFill>
                  <a:srgbClr val="e89d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e89d00"/>
                </a:solidFill>
                <a:latin typeface="Arial"/>
              </a:rPr>
              <a:t>Read The Study</a:t>
            </a:r>
            <a:r>
              <a:rPr b="0" lang="en-GB" sz="3600" spc="-1" strike="noStrike">
                <a:solidFill>
                  <a:srgbClr val="e89d00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99680" y="3212640"/>
            <a:ext cx="8134200" cy="32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Freud’s conclusion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Little Hans’s phobia of horses was really fear of father (castration fear) during resolution of the Oedipus Conflic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Fear resolved when Oedipus conflict resolved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10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e89d00"/>
                </a:solidFill>
                <a:latin typeface="Arial"/>
              </a:rPr>
              <a:t>Little Hans:  Criticisms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99680" y="3212640"/>
            <a:ext cx="8134200" cy="32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Hans is analysed by the father who is emotionally involved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Father is biased as he already admires the work of Freud and may</a:t>
            </a: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 have believed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 that the boy was in the Oedipal (phallic stage)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Father ‘put words into Hans’ mouth’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10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10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10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10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e89d00"/>
                </a:solidFill>
                <a:latin typeface="Arial"/>
              </a:rPr>
              <a:t>Little Hans:  Criticisms 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99680" y="3212640"/>
            <a:ext cx="8134200" cy="32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The case study seems to be both scientific evidence and treatmen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These should be separated because if we ‘treat’ what we are investigating how can it remain unchanged to be investigated?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e89d00"/>
                </a:solidFill>
                <a:latin typeface="Arial"/>
              </a:rPr>
              <a:t>Little Hans: Criticisms 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99680" y="3212640"/>
            <a:ext cx="8134200" cy="32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But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 … Freud did deal with real people &amp; their problems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Not neat &amp; tidy but has “ecological validity”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e89d00"/>
                </a:solidFill>
                <a:latin typeface="Arial"/>
              </a:rPr>
              <a:t>Little Hans: Criticisms 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99680" y="3212640"/>
            <a:ext cx="8134200" cy="32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66"/>
                </a:solidFill>
                <a:uFillTx/>
                <a:latin typeface="Arial"/>
              </a:rPr>
              <a:t>And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 unlike adult ‘case studies’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No searching through ‘past memory’ -  Hans father simply asked Hans!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e89d00"/>
                </a:solidFill>
                <a:latin typeface="Arial"/>
              </a:rPr>
              <a:t>Little Hans:  Other explanations  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99680" y="3212640"/>
            <a:ext cx="8134200" cy="32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Perhaps Hans dreams about widdlers &amp; widdling were caused by his fear that his mother might cut off his penis?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But - Freud’s theory was that mothers were the primary love object of little boys, (not that a mother could be feared)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10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e89d00"/>
                </a:solidFill>
                <a:latin typeface="Arial"/>
              </a:rPr>
              <a:t>Little Hans:  other explanations    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99680" y="3212640"/>
            <a:ext cx="8134200" cy="32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52080" indent="-352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Erich Fromm (&amp; Social Learning Theory)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1068840" indent="-352080">
              <a:spcBef>
                <a:spcPts val="601"/>
              </a:spcBef>
              <a:buClr>
                <a:srgbClr val="0000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It was because Hans’ father took such an interest in him, that Hans identified with his father and wished to be like him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52080" indent="-352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Bowlby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1068840" indent="-352080">
              <a:spcBef>
                <a:spcPts val="601"/>
              </a:spcBef>
              <a:buClr>
                <a:srgbClr val="0000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Hans may have been afraid of being separated from his mother (separation anxiety)  thus feared horses (as these were the main mode of transport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10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10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e89d00"/>
                </a:solidFill>
                <a:latin typeface="Arial"/>
              </a:rPr>
              <a:t>Little Hans: other explanations   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99680" y="3212640"/>
            <a:ext cx="8134200" cy="32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Learning Theory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Hans had seen a horse fall down in the street (equivalent to road accident today)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So he ‘learned to be’ afraid of horses!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e89d00"/>
                </a:solidFill>
                <a:latin typeface="Arial"/>
              </a:rPr>
              <a:t>Little Hans - Ethical issues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99680" y="3212640"/>
            <a:ext cx="8134200" cy="32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Treatment not very child friendly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Included leading questions)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Freud’s theory of the Oedipus/Electra conflict is proposed by some psychologists as the reason why people are reluctant to believe children who report sexual abuse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107964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e89d00"/>
                </a:solidFill>
                <a:latin typeface="Arial"/>
              </a:rPr>
              <a:t>Little Hans - Ethical Issues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99680" y="3212640"/>
            <a:ext cx="8134200" cy="32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Hans was interviewed when he was 19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He had no recollection of any of the discussions -  “No long term effects”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1079640" indent="-355680">
              <a:spcBef>
                <a:spcPts val="601"/>
              </a:spcBef>
              <a:buClr>
                <a:srgbClr val="0000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Hans said when he read the case study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1079640" indent="-355680">
              <a:spcBef>
                <a:spcPts val="601"/>
              </a:spcBef>
              <a:buClr>
                <a:srgbClr val="0000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“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it came as something from the unknown”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89d00"/>
                </a:solidFill>
                <a:latin typeface="Arial"/>
              </a:rPr>
              <a:t>Sigmund Freud (1909)</a:t>
            </a:r>
            <a:br>
              <a:rPr sz="3200"/>
            </a:br>
            <a:r>
              <a:rPr b="0" lang="en-US" sz="3200" spc="-1" strike="noStrike">
                <a:solidFill>
                  <a:srgbClr val="e89d00"/>
                </a:solidFill>
                <a:latin typeface="Arial"/>
              </a:rPr>
              <a:t>psychodynamic perspective</a:t>
            </a:r>
            <a:endParaRPr b="0" lang="en-US" sz="32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99680" y="3212640"/>
            <a:ext cx="8134200" cy="32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Analysis of a phobia of a five year old boy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e89d00"/>
                </a:solidFill>
                <a:latin typeface="Arial"/>
              </a:rPr>
              <a:t>Sigmund Freud</a:t>
            </a:r>
            <a:br>
              <a:rPr sz="3600"/>
            </a:br>
            <a:r>
              <a:rPr b="0" lang="en-GB" sz="3600" spc="-1" strike="noStrike">
                <a:solidFill>
                  <a:srgbClr val="e89d00"/>
                </a:solidFill>
                <a:latin typeface="Arial"/>
              </a:rPr>
              <a:t>The case study of Little Hans  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99680" y="3212640"/>
            <a:ext cx="8134200" cy="32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List three ways in which people show unconscious wishes in their behaviour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How can you criticise Freud’s method of collecting data?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What differences are there between the attitudes of Han’s parents and the attitudes of parents today?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e89d00"/>
                </a:solidFill>
                <a:latin typeface="Arial"/>
              </a:rPr>
              <a:t>Sigmund  Freud - Little Hans 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99680" y="3212640"/>
            <a:ext cx="8134200" cy="32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The analysis of a phobia of a five year old boy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A Longitudinal Case study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The Oedipus Conflict &amp; its resolution by psychoanalysis (therapy)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5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89d00"/>
                </a:solidFill>
                <a:latin typeface="Arial"/>
              </a:rPr>
              <a:t>The psychoanalytic theory </a:t>
            </a:r>
            <a:br>
              <a:rPr sz="3600"/>
            </a:br>
            <a:r>
              <a:rPr b="0" lang="en-US" sz="3600" spc="-1" strike="noStrike">
                <a:solidFill>
                  <a:srgbClr val="e89d00"/>
                </a:solidFill>
                <a:latin typeface="Arial"/>
              </a:rPr>
              <a:t>Sigmund Freud 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99680" y="3212640"/>
            <a:ext cx="8134200" cy="32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e tripartite structure of human personality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ripartite means - in three parts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305920" y="54770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e89d00"/>
                </a:solidFill>
                <a:latin typeface="Arial"/>
              </a:rPr>
              <a:t>The tripartite structure of personality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99680" y="3212640"/>
            <a:ext cx="8134200" cy="32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66"/>
                </a:solidFill>
                <a:uFillTx/>
                <a:latin typeface="Arial"/>
              </a:rPr>
              <a:t>The Id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= the biological part (instincts &amp; drives)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e earliest part of the human personality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Present at birth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Motivated by the pleasure principle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000"/>
                            </p:stCondLst>
                            <p:childTnLst>
                              <p:par>
                                <p:cTn id="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e89d00"/>
                </a:solidFill>
                <a:latin typeface="Arial"/>
              </a:rPr>
              <a:t>The tripartite structure of personality</a:t>
            </a:r>
            <a:r>
              <a:rPr b="0" lang="en-US" sz="3600" spc="-1" strike="noStrike">
                <a:solidFill>
                  <a:srgbClr val="e89d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99680" y="3212640"/>
            <a:ext cx="8134200" cy="32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The Ego (the ‘self’)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e second part of the human personality to develop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1 - 3 year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Motivated by the reality principle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20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20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e89d00"/>
                </a:solidFill>
                <a:latin typeface="Arial"/>
              </a:rPr>
              <a:t>The tripartite structure of personality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99680" y="3212640"/>
            <a:ext cx="8134200" cy="32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The Superego (the moral part)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e third part of the human personality to develop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3 - 5 year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Motivated by the anxiety  principle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20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000"/>
                            </p:stCondLst>
                            <p:childTnLst>
                              <p:par>
                                <p:cTn id="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20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e89d00"/>
                </a:solidFill>
                <a:latin typeface="Arial"/>
              </a:rPr>
              <a:t>The tripartite structure of personality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99680" y="3068640"/>
            <a:ext cx="8134200" cy="32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-355680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The psychological apparatus is in conflic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10796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Id 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&gt;&gt;&gt;&gt; </a:t>
            </a: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Ego  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&lt;&lt;&lt;&lt; </a:t>
            </a: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 Superego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neurotic       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    mora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3" marL="2155680" indent="0"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66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66"/>
                </a:solidFill>
                <a:latin typeface="Arial"/>
              </a:rPr>
              <a:t>conflict                  conflict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Unconscious </a:t>
            </a:r>
            <a:r>
              <a:rPr b="1" lang="en-GB" sz="2400" spc="-1" strike="noStrike" u="sng">
                <a:solidFill>
                  <a:srgbClr val="000066"/>
                </a:solidFill>
                <a:uFillTx/>
                <a:latin typeface="Arial"/>
              </a:rPr>
              <a:t>conflict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 can be resolved by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1079640" indent="-355680">
              <a:spcBef>
                <a:spcPts val="451"/>
              </a:spcBef>
              <a:buClr>
                <a:srgbClr val="0000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Dream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1079640" indent="-355680">
              <a:spcBef>
                <a:spcPts val="451"/>
              </a:spcBef>
              <a:buClr>
                <a:srgbClr val="0000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Neurotic symptom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1079640" indent="-355680">
              <a:spcBef>
                <a:spcPts val="451"/>
              </a:spcBef>
              <a:buClr>
                <a:srgbClr val="0000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Defence mechanism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20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2000"/>
                            </p:stCondLst>
                            <p:childTnLst>
                              <p:par>
                                <p:cTn id="7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20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4000"/>
                            </p:stCondLst>
                            <p:childTnLst>
                              <p:par>
                                <p:cTn id="8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20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2T20:08:06Z</dcterms:created>
  <dc:creator>Pete</dc:creator>
  <dc:description/>
  <dc:language>en-US</dc:language>
  <cp:lastModifiedBy>breckf</cp:lastModifiedBy>
  <dcterms:modified xsi:type="dcterms:W3CDTF">2010-05-10T15:53:58Z</dcterms:modified>
  <cp:revision>7</cp:revision>
  <dc:subject/>
  <dc:title>Slide 1</dc:title>
</cp:coreProperties>
</file>