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79064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2155680" indent="-18576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541600" indent="-20628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e89d00"/>
                </a:solidFill>
                <a:latin typeface="Arial"/>
              </a:rPr>
              <a:t>AS Level Psychology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Arial"/>
              </a:rPr>
              <a:t>The Core Studie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Arial"/>
              </a:rPr>
              <a:t>The developmental approach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2 - pre-operational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  to 7 yea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 is egocentric - unable to understand the world from another’s perspect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03280" y="3500280"/>
            <a:ext cx="6124680" cy="3067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9680" y="2924280"/>
            <a:ext cx="813420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Example of egocentric chil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ree mountains tas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99680" y="4785840"/>
            <a:ext cx="8134200" cy="16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preoperational stage child cannot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ser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does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onser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ea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ren can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onser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when they understa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at quantity does not change when appear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ng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2 - pre-operational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ical conservation test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ge 1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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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e there the same number of counters in each row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2 - pre-operational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ical conservation test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ge 2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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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e there the same number of counters in each row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2 - pre-operational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ervation te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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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hild who says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annot conserve nu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43280" y="4869000"/>
            <a:ext cx="914400" cy="14475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4869000"/>
            <a:ext cx="914400" cy="14475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2 - pre-operational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servation of ma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 rolls of plasticine - is there the same amount in each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2 - pre-operational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ll one out while child watch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4221000"/>
            <a:ext cx="914400" cy="167652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5940360" y="3645000"/>
            <a:ext cx="533520" cy="25905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2 - pre-operational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ill the same amount in each?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hild who says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able to conserv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4653000"/>
            <a:ext cx="914400" cy="167652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3213000"/>
            <a:ext cx="533520" cy="320040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ge 2 - pre-operational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servation of volu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 containers of liquid - same amoun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A as in B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11520" y="4797360"/>
            <a:ext cx="1219320" cy="17528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4797360"/>
            <a:ext cx="1295640" cy="1752840"/>
          </a:xfrm>
          <a:prstGeom prst="can">
            <a:avLst>
              <a:gd name="adj" fmla="val 25000"/>
            </a:avLst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3399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Developmental Psycholog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 Topic: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gnitive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 authors: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muel J &amp; Bryant P (1984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9680" y="2781360"/>
            <a:ext cx="8134200" cy="37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2 - pre-operational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atch while pour B into 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me amount in A as in C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4365720"/>
            <a:ext cx="1143000" cy="175248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4365720"/>
            <a:ext cx="1143000" cy="175248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5300640"/>
            <a:ext cx="2971800" cy="609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2 - pre-operational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me amount in A as in C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hild who says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unable to conserv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volu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724280"/>
            <a:ext cx="1143000" cy="17528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4797360"/>
            <a:ext cx="1143000" cy="175284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5805360"/>
            <a:ext cx="2971800" cy="609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9680" y="141264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9680" y="2923920"/>
            <a:ext cx="8134200" cy="3560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332000" y="2205000"/>
            <a:ext cx="635004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ording to Piage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all these cases the child can only take into consideration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pect of the physical world at a time (what it looks lik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us if it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look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different it must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b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different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3 :concrete operational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7  - approx. 11 yea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 now able to conserve and can perform quite complex operatio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t only if ‘real’ objects are ‘at hand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hild cannot perform mental operations (transformation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f Bill is taller than Jim and Shorter than john who is the talles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out real figures to manipulate the child cannot answ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2492280"/>
            <a:ext cx="8134200" cy="17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ill is taller than Jim and shorter than John who is th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lles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il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Ji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Joh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03640" y="4340160"/>
            <a:ext cx="636480" cy="149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826920" y="4335480"/>
            <a:ext cx="928800" cy="1727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003640" y="3789360"/>
            <a:ext cx="10972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4: ‘Formal Operations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ged 11+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hild can now perform logical operations and abstract reason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ording to Piaget not all achieve the stage of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formal oper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muel &amp; Bryan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criticised Piag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y did not agree that  young children were unable to conser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y thought children answered the way they did because of the way the experiment was carried o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muel &amp; Bryan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ought that  the experiment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thod and the repeated questions we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Demand Characteristic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amuel J &amp; Bryant P (1984)</a:t>
            </a:r>
            <a:br>
              <a:rPr sz="3600"/>
            </a:b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0040" y="2923920"/>
            <a:ext cx="39909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young childr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conserv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does asking th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me question twice cau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m to fail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2923920"/>
            <a:ext cx="3990960" cy="3560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724360" y="3213000"/>
            <a:ext cx="2025720" cy="23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tandard conservation tes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Question 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e there the same number of counters in row A &amp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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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ild answers y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tandard conservation test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tage 2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 watches the transform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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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tandard conservation test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tage 3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9680" y="3357360"/>
            <a:ext cx="813420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Question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e there the same number of counters in row A &amp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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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ld answers n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ing to conser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amuel &amp; Bryant (1984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t up an experiment to try to demonstrate th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sking the same question twice causes children to make errors in the standard conservation te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amuel &amp; Bryant (1984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The participa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52 boys &amp; gir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d 5 to 8.5 yea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 groups of 6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an ages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 yrs 3 month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516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 yrs 3 month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2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 yrs 3 month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2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8 yrs 3 mon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amuel &amp; Bryant (1984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re is a naturalistic IV = 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n groups divided into 3 sub groups  (21 in each sub grou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amuel &amp; Bryant (1984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ndard Gro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ditional conservation tas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ked two ques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ne Judgement Gro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one question ask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e transform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xed Arr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w only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display - the post transformation o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amuel &amp; Bryant (1984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oced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ach child given 12 separate trial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 equal 2 unequal mass (plasticin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 equal 2 unequal number (counter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 equal 2 unequal number (liqui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amuel &amp; Bryant (1984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In this experi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are the IV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is the DV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did S &amp; B  measure the ability to conserve (operationalise the DV)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y did S &amp; B include an unequal condition in the pre transforma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amuel &amp; Bryant (1984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ean errors for each gro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Standar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1 Question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xed Arr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ren’s thought processes ar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qualitativel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different to adult thought proce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amuel &amp; Bryant (1984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g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tandar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1 Ques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xed Arra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did performance differ by ag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did performance differ between experimental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roup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these results support Piage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amuel &amp; Bryant (1984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34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Methodolog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4080" indent="-33408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aturalistic experiment (IV = age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4080" indent="-33408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ross sectional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4080" indent="-33408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xperimental (IV = condition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4080" indent="-33408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Repeated measur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4080" indent="-33408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Ecological validity 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4080" indent="-33408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articipant bias - was there any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4080" indent="-33408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Ethical concerns - are there any 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amuel &amp; Bryant (1984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ren’s ability to conser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tuation vs dispositional explan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ature vs Nurture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iaget is the most famous writer on children’s cognitive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iaget studied his own children and their frien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iaget proposed a maturational theory of cognitive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ature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ot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ur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ognitive development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transformation of initial inborn schema by th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in processes of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imilation = pract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ommodation = modif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9680" y="2923920"/>
            <a:ext cx="8134200" cy="3560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gnitive development takes place through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fou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ixed age related stag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8109000" cy="36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Jean Piaget and his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age 1- the sensorimotor st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irth to 2 yea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 learns from interaction with environ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at about 6 months doe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bjec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permanence occ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Lior Erez</cp:lastModifiedBy>
  <dcterms:modified xsi:type="dcterms:W3CDTF">2010-05-10T13:33:13Z</dcterms:modified>
  <cp:revision>5</cp:revision>
  <dc:subject/>
  <dc:title>Slide 1</dc:title>
</cp:coreProperties>
</file>