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22748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773000"/>
            <a:ext cx="8134200" cy="83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22748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378936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227480"/>
            <a:ext cx="26190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773000"/>
            <a:ext cx="8134200" cy="83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22748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3789360"/>
            <a:ext cx="396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227480"/>
            <a:ext cx="81342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-2484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7880" indent="-237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857880" indent="-1782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057320" indent="-1980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45864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70812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89532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Reading Minds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he eye task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11280" y="3860640"/>
          <a:ext cx="4462560" cy="21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3860640"/>
                    <a:ext cx="44625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3745080" cy="182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26520"/>
            <a:ext cx="792504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best describes what this person is thinking or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lecti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refl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94760" indent="-1947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ced choice ‘eye task’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-1947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-194760">
              <a:spcBef>
                <a:spcPts val="649"/>
              </a:spcBef>
              <a:buClr>
                <a:srgbClr val="e89d00"/>
              </a:buClr>
              <a:buFont typeface="Arial"/>
              <a:buChar char="•"/>
              <a:tabLst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89d00"/>
                </a:solidFill>
                <a:latin typeface="Arial"/>
              </a:rPr>
              <a:t>Target</a:t>
            </a:r>
            <a:r>
              <a:rPr b="0" lang="en-US" sz="2600" spc="-1" strike="noStrike">
                <a:solidFill>
                  <a:srgbClr val="e89d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e89d00"/>
                </a:solidFill>
                <a:latin typeface="Arial"/>
              </a:rPr>
              <a:t>Fo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649"/>
              </a:spcBef>
              <a:buNone/>
              <a:tabLst>
                <a:tab algn="l" pos="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tracti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r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649"/>
              </a:spcBef>
              <a:buNone/>
              <a:tabLst>
                <a:tab algn="l" pos="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iendl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i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649"/>
              </a:spcBef>
              <a:buNone/>
              <a:tabLst>
                <a:tab algn="l" pos="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xi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-194760">
              <a:spcBef>
                <a:spcPts val="649"/>
              </a:spcBef>
              <a:buClr>
                <a:srgbClr val="e89d00"/>
              </a:buClr>
              <a:buFont typeface="Arial"/>
              <a:buChar char="•"/>
              <a:tabLst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e89d00"/>
                </a:solidFill>
                <a:uFillTx/>
                <a:latin typeface="Arial"/>
              </a:rPr>
              <a:t>target</a:t>
            </a:r>
            <a:r>
              <a:rPr b="0" lang="en-US" sz="2600" spc="-1" strike="noStrike">
                <a:solidFill>
                  <a:srgbClr val="e89d00"/>
                </a:solidFill>
                <a:latin typeface="Arial"/>
              </a:rPr>
              <a:t> is the correct answer presented randomised both left and rig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649"/>
              </a:spcBef>
              <a:buNone/>
              <a:tabLst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was the ‘eye task’ cr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azine photos select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judges generated the target wo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e89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89d00"/>
                </a:solidFill>
                <a:latin typeface="Arial"/>
              </a:rPr>
              <a:t>Target</a:t>
            </a:r>
            <a:r>
              <a:rPr b="0" lang="en-US" sz="2600" spc="-1" strike="noStrike">
                <a:solidFill>
                  <a:srgbClr val="e89d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e89d00"/>
                </a:solidFill>
                <a:latin typeface="Arial"/>
              </a:rPr>
              <a:t>Fo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xi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arg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correct answer the FOIL is the opposi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ntro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 generating targets &amp; foi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increases eye task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validit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ye photos shown to panel of 8 adults who did not know there was a ‘right or wrong’ answer there was 100% agreement with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ar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Contro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tas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1) Gender Identification: all participants asked to identify the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gender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f each of the 25 eye pho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2) Basic emotion task: all participants asked to identify the emotion in full face photos, happy, sad, angry, afraid, surprise, disgust (Ekman categorie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63400" y="3429000"/>
          <a:ext cx="811224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400" y="3429000"/>
                    <a:ext cx="81122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e females better at reading minds from eyes than males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3933720"/>
          <a:ext cx="8015400" cy="251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933720"/>
                    <a:ext cx="8015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90800" indent="-190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re these differences significant (above the level of chance)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0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800" indent="-190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t a significance level of p =&lt; 0.0001      Normal and Tourette’s better than Autist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0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800" indent="-190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t a significance level of p =&lt; 0.0001    Normal females better than m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idence for subtle ‘mindreading’ deficits in intelligent adults on the Autistic spectr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ye task is a ‘pure theory of mind test’ because there is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ontex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Baron Cohen et al (1997) Ecological Validity?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31798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way the experiment measur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V (Theory of Mi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experimental sett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sample of participan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stic in a real life setting? Would the same 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have in the same way in real lif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: why or why no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Reading Minds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he eye task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11640" y="2492280"/>
          <a:ext cx="4462560" cy="21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2492280"/>
                    <a:ext cx="44625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62120" y="508464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best describes what this person is thinking or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cer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conce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ypes of data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Discuss: strengths &amp; limitation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3427560"/>
            <a:ext cx="8134200" cy="31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tative = matters of fact objective, scientific &amp; re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analysis &amp; compari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ative = matters of opin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, rich in detail, can be hard t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aly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may be misinterpr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Baron Cohen et al (1997) 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The experimental methodology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9680" y="3035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94760" indent="-1947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the method appropriate for the aim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4760" indent="-1947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e the experimental conditions realistic (mundane realism = real world realism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4760" indent="-1947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as the DV operationalised and was this a valid measure of the behaviour being studied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experimental procedure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3251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ere the participants allocated to the conditions and were controls used to remove ‘extra variables’ 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re there any cues that might have generated demand characteristics 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eliabilit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Could the study be replicated to find the same results?  Why or why no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sample 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680" y="33242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o were the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the sample biased in any wa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the sample large enough to mask the effect of individual differenc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which population can we safely generalise the finding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9680" y="119664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br>
              <a:rPr sz="5200"/>
            </a:br>
            <a:r>
              <a:rPr b="0" lang="en-US" sz="5200" spc="-1" strike="noStrike">
                <a:solidFill>
                  <a:srgbClr val="e89d00"/>
                </a:solidFill>
                <a:latin typeface="Arial"/>
              </a:rPr>
              <a:t>Reading minds from eyes! </a:t>
            </a:r>
            <a:r>
              <a:rPr b="0" lang="en-GB" sz="5200" spc="-1" strike="noStrike">
                <a:solidFill>
                  <a:srgbClr val="e89d00"/>
                </a:solidFill>
                <a:latin typeface="Arial"/>
              </a:rPr>
              <a:t>   </a:t>
            </a:r>
            <a:endParaRPr b="0" lang="en-US" sz="5200" spc="-1" strike="noStrike">
              <a:solidFill>
                <a:srgbClr val="e89d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03640" y="3214800"/>
            <a:ext cx="2873160" cy="1412640"/>
            <a:chOff x="3203640" y="3214800"/>
            <a:chExt cx="2873160" cy="141264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203640" y="3214800"/>
              <a:ext cx="287316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3203640" y="3214800"/>
              <a:ext cx="2873160" cy="14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lvl="1" marL="19836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7200" y="4796280"/>
            <a:ext cx="83818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best describes what this person is thinking or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ympathe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unsympa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1342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89d00"/>
                </a:solidFill>
                <a:latin typeface="Arial"/>
              </a:rPr>
              <a:t>Baron Cohen et al (1997) </a:t>
            </a:r>
            <a:endParaRPr b="0" lang="en-US" sz="5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2781360"/>
            <a:ext cx="471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test for theory of mind in adults with A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uss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‘minds’ can only ever be a theor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35640" y="2852640"/>
          <a:ext cx="3124080" cy="17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85264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219640" y="486864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these two people happy or sad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earch Question: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Wh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do adults with autistic spectrum disorders have problems with social relationship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ypothesi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ults with Asperger Syndrome (Autism) can’t interpret states of mind from ‘reading eyes’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st order Theory of Mind ta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soning what another person is thinking (example: ‘Sally Ann’ tes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rmal children develop this ability by the age of 6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e Sally Ann test is not appropriate for ad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od:   Natural experi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 groups of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V = Normal, Autistic, Tourette’s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V = performance on eye task (maximum score = 2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 autistic (Asperger) 13 male 3 fem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 normal, 25 male, 25 fem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 Tourette’s patients, 8 male, 2 fem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ched on age &amp; normal intellig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872680"/>
            <a:ext cx="7772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te: The 2 clinical groups had pa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st order TOM tests at 6 year ol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‘eyes task’ procedur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5 photos of e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ch 15 x 10cm black and wh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ch photo shown for 3 seco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ced choice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sted individually in quiet ro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Baron Cohen et al (1997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68360" y="2781360"/>
            <a:ext cx="4105440" cy="187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826520"/>
            <a:ext cx="792504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best describes what this person is thinking or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io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y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1:01:07Z</dcterms:created>
  <dc:creator>Corporate User</dc:creator>
  <dc:description/>
  <dc:language>en-US</dc:language>
  <cp:lastModifiedBy>Lior Erez</cp:lastModifiedBy>
  <dcterms:modified xsi:type="dcterms:W3CDTF">2010-05-10T08:57:46Z</dcterms:modified>
  <cp:revision>3</cp:revision>
  <dc:subject/>
  <dc:title>Slide 1</dc:title>
</cp:coreProperties>
</file>