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0480" indent="-330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04040" indent="-3304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665000" indent="-330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2004480" indent="-172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363400" indent="-19152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363400" indent="-1915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363400" indent="-1915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458640" indent="97632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708120" indent="12618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895320" indent="14400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images.google.co.uk/imgres?imgurl=http://kingofpeace.org/images/buchenwald.jpg&amp;imgrefurl=http://kingofpeace.blogspot.com/2006_04_01_archive.html&amp;h=323&amp;w=430&amp;sz=41&amp;hl=en&amp;start=2&amp;tbnid=VfOkumNmU-LAzM:&amp;tbnh=95&amp;tbnw=126&amp;prev=/images%3Fq%3Dconcentration%2Bcamp%26gbv%3D2%26hl%3Den%26sa%3D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AS level Psychology</a:t>
            </a:r>
            <a:br>
              <a:rPr sz="5100"/>
            </a:b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The core studies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e Social Approach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Procedur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13420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participant (teacher) given a mild 15v electric sho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 stooge wired up to the electric shock machine in next roo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experiment beg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8381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ask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997360"/>
            <a:ext cx="8134200" cy="32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acher read series of word pair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 blue sky, green grass,  red ballo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arner had to memorise the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acher then reads out one w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 Green …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arner to respond with the ‘pair match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ask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9680" y="3212640"/>
            <a:ext cx="8134200" cy="327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987640" y="1557360"/>
            <a:ext cx="39751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If a mistake was mad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acher told to give electric shock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learn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ising by 15 volts each mistak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om 15 volts to 450 vol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516720" y="3716280"/>
            <a:ext cx="1333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happened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participants shook, trembled, and swea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y were pressed to continu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must go on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experiment is important”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ease continue”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970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your text book and no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589720"/>
            <a:ext cx="3200400" cy="304560"/>
          </a:xfrm>
          <a:prstGeom prst="rect">
            <a:avLst/>
          </a:prstGeom>
          <a:gradFill rotWithShape="0">
            <a:gsLst>
              <a:gs pos="0">
                <a:srgbClr val="e89d00"/>
              </a:gs>
              <a:gs pos="100000">
                <a:srgbClr val="fdfa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happened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earner shouted and yell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e could be heard through the wal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e remained silent after 300 vol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0328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4697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many went to 450 volts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65% of participants went to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450 vol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6 of the 40 participan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would have followed orders and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killed the stoog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or making too many mistakes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membering Methodology …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was the dependent variabl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evel of obedience measured by the voltage of the electric shock that was give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as this experiment ethical?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134200" cy="32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at do you think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you were a member of an Ethics committee would you allow Milgram to repeat this stud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y or why not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Did the ends justify the means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134560" cy="32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as the knowledge gained worth the pain o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participan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can we decide this ques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o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shoul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decide this question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ocial Psychology</a:t>
            </a:r>
            <a:br>
              <a:rPr sz="3600"/>
            </a:b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Milgram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99680" y="3212640"/>
            <a:ext cx="8134200" cy="3272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35280" y="3284640"/>
            <a:ext cx="1811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Social Context</a:t>
            </a:r>
            <a:br>
              <a:rPr sz="3200"/>
            </a:b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WW2 ended in 1945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457668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behaviour of the German people during the the holocau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Nurenberg tria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article by Hannah Arendt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Eichmann in Jerusalem : a report on the banality of evi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3280" y="3212640"/>
            <a:ext cx="3990960" cy="3272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3213000"/>
            <a:ext cx="273528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Milgram's Question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y do we obey author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conditions foster obedienc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conditions foster independent behaviou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Milgram's hypothese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at American people would not obey orders that led to them harming another pers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at ‘German men’ are different to American men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76720" y="5157720"/>
            <a:ext cx="819000" cy="1104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92720" y="5157720"/>
            <a:ext cx="9129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Milgram’s method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la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xperiment at Yale Univers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re was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V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uld be called a ‘non naturalistic’ observ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Milgram’s participant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self selecting (volunteer) sample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answered advertisements asking for help with Yale university research into memory &amp; learning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ty 20 - 50 year old me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y were paid $4 for one hou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f their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516720" y="4869000"/>
            <a:ext cx="201600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1557360"/>
            <a:ext cx="37846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Milgram’s advertise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4600440" cy="4824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640" y="3068640"/>
            <a:ext cx="2735280" cy="1511280"/>
          </a:xfrm>
          <a:prstGeom prst="wedgeRectCallout">
            <a:avLst>
              <a:gd name="adj1" fmla="val 74490"/>
              <a:gd name="adj2" fmla="val 55462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You can see that a wide range of occupations were samp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Procedur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participant was paired with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colleague of Milgram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the stooge was Mr Wallace) 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ld they were taking part in an experiment on Memory / Learn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ectric Shock machine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ight/severe/danger of severe shock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lts ranged between 15 - 450 volt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80000" y="2637000"/>
            <a:ext cx="2519280" cy="1223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867280" y="4869000"/>
            <a:ext cx="237672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0:08:06Z</dcterms:created>
  <dc:creator>Pete</dc:creator>
  <dc:description/>
  <dc:language>en-US</dc:language>
  <cp:lastModifiedBy>Lior Erez</cp:lastModifiedBy>
  <dcterms:modified xsi:type="dcterms:W3CDTF">2010-05-10T11:10:19Z</dcterms:modified>
  <cp:revision>6</cp:revision>
  <dc:subject/>
  <dc:title>Slide 1</dc:title>
</cp:coreProperties>
</file>