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-2484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7880" indent="-237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857880" indent="-1782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057320" indent="-1980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645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: The BBC prison stud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3644640"/>
            <a:ext cx="8134200" cy="28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ranny the arbitrary and/or oppressive exercise of pow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: How do we come to condone the tyranny of others and/or act tyrannically ourselv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50156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: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pecific research aims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ect data on the development of social interactions between groups of unequal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yse the conditions under which peop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78040" indent="-41940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mselves in terms of group membershi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8040" indent="-41940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 or challenge group inequal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yse the relationships between social organisation &amp; clinical factors in group behavio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an ethical framework for examining social psychological issu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310824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th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mitted for scrutiny by BPS ethics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cipants clinical, medical &amp; background screened and all gav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forme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ons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ed by clinical psychologists through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edic on duty through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urity guards present to intervene if need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ed by 5 person ethics committee who were able to terminate the study at any 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articip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ruited by adverts in national p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ed, e.g. well adjusted and pro-so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assessed over a weeke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medical and character re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32 applicants reduced to 27 m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3107880"/>
            <a:ext cx="81342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articip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5 chosen to represent diversity in age, class and ethnici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ed on personality variables into 5 groups of 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from each group allocated as guard, and other 2 as prisoners - th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 guards and 10 prison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040" y="3715920"/>
            <a:ext cx="2992320" cy="27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ene from the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2851200"/>
            <a:ext cx="3990960" cy="363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51280" y="2781360"/>
            <a:ext cx="447516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3139560"/>
            <a:ext cx="813420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What was measured? Data sources (DV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Video &amp; audio recording of behavio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aily psychometric testing f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58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ocial variables e.g. social identif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58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organisational variables e.g. compliance with ru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58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linical variables e.g. depression &amp; self-effica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ortisol levels (saliva) as indicator of st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57320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3141360"/>
            <a:ext cx="81342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uard ini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vening prior to study the 5 guards were told they had been selected as 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n prison timetables, informed about duties, roll calls and their responsibility to ‘ensure institution runs smoothly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ed to draw up the rules and to suggest punis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ld no physical violence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to prison in van with blacked ou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314172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uard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ior accommo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quality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ior me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to all doors &amp; punishment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guard station with surveillance system which could view all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- sweets &amp; cigarettes to give rew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310824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soner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an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r shaved on arri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of T shirt having 3 digit number, loose trousers &amp; sand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ved one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d nothing -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 vio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rules &amp; ‘prisoner rights’ posted on cel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3066840"/>
            <a:ext cx="81342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ipulated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meability of 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soners &amp; guards were told guards were selected on basis on reliability, trustworthiness, initia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est not perfect and that guards would watch out for prisoners who showed ‘guard like’ qualities - that promotion was possible on day 3. Thus all believed movement between groups w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Introduction / background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ious explanations suggest that 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ychology always moves in the direction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eme anti-social behaviou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in a group individuals lose their sel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ty (deindividuation) and become cap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 barbaric ac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3138120"/>
            <a:ext cx="8134200" cy="29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ipulated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gitimacy of 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planned that on day 3 prisoners would be told that there were really no differences between prisoners &amp; guards, but that it was impractical to reassign roles so the groups would stay the same. This would lead to the perception that group differences were not legi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138480"/>
            <a:ext cx="813420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ipulated Variab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gnitive 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5th day, a new prisoner, chosen because of his background as a Trade Union official, was introduced. It was expected that he would provide the skills required to organise ‘collective actio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3138480"/>
            <a:ext cx="813420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 - Pha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uards did not develop group identity / coherence - they did not internalise power role and could not agree norms &amp;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day 3 when 1 prisoner was promoted to guard each prisoner tried to show the qualities that might lead to promotion (individual self interest predominated in priso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3107880"/>
            <a:ext cx="8134200" cy="24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 - Pha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one P was promoted, when roles were fixed (impermeable) the prisoner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 group identity and as a group challenged the guards, this led to a shift in power &amp; a collapse of the prisoner / guard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107880"/>
            <a:ext cx="81342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 - Phas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day 6 Ps break out of cell and occupy Gs quarters, the regime of the Gs has now 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s and Gs decided to continue as a self governing ‘commune’ but prisoners who had led the challenges did not co-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e study a more draconian system of inequality was being proposed by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3108240"/>
            <a:ext cx="81342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 - Phas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ne day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mune established but dominant challengers violate commune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ne day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 former P and 3 Gs plan to re-establish authoritarian hier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ant to be Gs and make them ******* toe the l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tarianism increased in both Ps and 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terminated on 8t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1345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Results</a:t>
            </a: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: authoritarianism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640" y="3070080"/>
            <a:ext cx="3581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eed strong leaders that people can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kinds of people, strong and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950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both Ps and Gs there was a significant increase in authoritarianism over the length of the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7212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45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28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2800"/>
            </a:br>
            <a:r>
              <a:rPr b="1" lang="en-GB" sz="2800" spc="-1" strike="noStrike">
                <a:solidFill>
                  <a:srgbClr val="e89d00"/>
                </a:solidFill>
                <a:latin typeface="Arial"/>
              </a:rPr>
              <a:t>Results</a:t>
            </a: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: social identification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2906640"/>
            <a:ext cx="4859280" cy="273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2924280"/>
            <a:ext cx="3581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identify with Ps / 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strong ties with Ps / 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solidarity with Ps / 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s averaged &amp; out-group score subtra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in-group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5815080"/>
            <a:ext cx="7850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soner in-group identification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ard in-group identification decre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Results:</a:t>
            </a: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 cognitive alternatives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3141720"/>
            <a:ext cx="3581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ink the Gs will alw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more privileges than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ink the relationship between Ps and G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09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oner perception of alternative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478764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Results:</a:t>
            </a: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 acceptance of unequal regime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284640"/>
            <a:ext cx="358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ry to do what the Gs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ry to comply with the 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60404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soner compliance reduced after group boundaries perceived to be imperm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75280" y="3306600"/>
            <a:ext cx="4500360" cy="26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he Stanford Prison Experiment (SPE) Haney, Banks &amp; Zimbardo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9680" y="3068640"/>
            <a:ext cx="81342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t a mock prison in university bas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ruited 21 healthy and well adjusted students as volunte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ly allocated them to the role of prisoner or gu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nd that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terpersonal relationships deteriorated, became negative/hostile/humiliating/dehumani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Results:</a:t>
            </a: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 group self- efficac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463920"/>
            <a:ext cx="358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ison group can manage to solve problems if we try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127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soner self-efficacy increased becoming greater than gu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11640" y="3143160"/>
            <a:ext cx="442764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r>
              <a:rPr b="1" lang="en-GB" sz="3200" spc="-1" strike="noStrike">
                <a:solidFill>
                  <a:srgbClr val="e89d00"/>
                </a:solidFill>
                <a:latin typeface="Arial"/>
              </a:rPr>
              <a:t>Results:</a:t>
            </a: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 group depression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6392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report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ever feel low or de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0404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depression low, but Ps depression reduced, Gs depression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84720" y="3057480"/>
            <a:ext cx="460836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1342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way in which members of a group behave depends on the norms &amp; values of the group social identity and may be pro or anti so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ailing groups create problems for their own members and for others because when people cannot create a social system they will accept extreme solutions proposed by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200"/>
            </a:b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134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breakdown of groups, and powerlessness, create the conditions for tyran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t is possible to design and run powerful social psychological research studies that are also eth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057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13420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on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role of G was positively valued in the prison but the Gs were concerned with possible negative evaluation by future audiences &amp; this made them reluctant to identify with their r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us, rather than present situation ‘only’ determining behaviour, past and future context may also have an aff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cuss: How might the knowledge that this was to be a TV programme have affected behaviou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9680" y="3035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scussion poi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fferences between SPE &amp; BBC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ity of self report measurements (DV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ability - can the study be replicated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- does this matt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ological validity (level of realis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ness – how can the findings be appl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238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9680" y="141264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5238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712944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he Stanford Prison Experiment (SPE) Haney, Banks &amp; Zimbardo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9680" y="29638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ards became increasingly aggressive prisoners became passive and depres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prisoners developed rashes, crying, trembling and acute anxiety by 2nd 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st hostile guards became leaders and role models for the ‘other’ gu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 terminated on 6th day as the behaviour of the guards became even more tyrann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he Stanford Prison Experiment (SPE) Haney, Banks &amp; Zimbardo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8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Zimbardo conclud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2880" indent="-182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illusion of  ‘power’ had become r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2880" indent="-182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h Ps and Gs identified with &amp; conformed to their allocated social ro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2880" indent="-182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ituation that people are in determines how they beh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82880" indent="-182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implies that people have no free will, that people cannot choos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o act in accordance with their assigned social ro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Rethinking the psychology of tyranny 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3541320"/>
            <a:ext cx="813420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Zimbardo’s guards given clear guidance on how to cause powerlessness in prison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ecause of ethical concerns, SPE has never been replicated &amp; lacks quantitativ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search Question: what are the conditions under which people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assume (conform to) allocated social rol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41264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 Rethinking the psychology of tyranny: The BBC prison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9680" y="2851200"/>
            <a:ext cx="8134200" cy="363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16000" y="2639880"/>
            <a:ext cx="6769080" cy="39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 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3213000"/>
            <a:ext cx="813420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icher &amp; Haslam &amp; the BBC, created the environment, filmed and broadc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riginal science filmed,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reality T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im: to create an institution ‘like’ a prison to investigate the behaviour of groups that are unequal in resources, power and sta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icher &amp; Haslam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Rethinking the psychology of tyrann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3355560"/>
            <a:ext cx="8134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Reicher &amp; Haslam ques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 participants accept roles uncritical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 those given power exercise it with no restrain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 those given no power accept their situation without complain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15:48Z</dcterms:created>
  <dc:creator>Corporate User</dc:creator>
  <dc:description/>
  <dc:language>en-US</dc:language>
  <cp:lastModifiedBy>Lior Erez</cp:lastModifiedBy>
  <dcterms:modified xsi:type="dcterms:W3CDTF">2010-05-10T12:08:53Z</dcterms:modified>
  <cp:revision>8</cp:revision>
  <dc:subject/>
  <dc:title>Slide 1</dc:title>
</cp:coreProperties>
</file>