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media/image10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04040" indent="-3304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66500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004480" indent="-172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363400" indent="-19152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e89d00"/>
                </a:solidFill>
                <a:latin typeface="Arial"/>
              </a:rPr>
              <a:t>AS Level Psychology</a:t>
            </a:r>
            <a:br>
              <a:rPr sz="4700"/>
            </a:br>
            <a:r>
              <a:rPr b="0" lang="en-US" sz="47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br>
              <a:rPr sz="4700"/>
            </a:br>
            <a:endParaRPr b="0" lang="en-US" sz="47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gnitive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Experiment 1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Critical Ques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bout how fast were the cars going when the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*******) each oth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were five conditions (verbs) in th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periment  (Five groups of stud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967280" cy="2960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Experiment 1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five conditions (ver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r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act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mp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li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mash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Experiment 1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2492280"/>
          <a:ext cx="5111640" cy="384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2492280"/>
                    <a:ext cx="511164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Experiment 1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conclusion can you draw from the finding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as the IV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as the DV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ye Witness Testimo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second experiment b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ftus &amp; Pal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3357720"/>
            <a:ext cx="2952720" cy="2489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1219320" cy="1790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372360" y="3500280"/>
            <a:ext cx="13428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participan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150 stud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procedu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Students watched a one minute film which showed  a 4 second multiple car accid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fter the film the participants were divided in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ree experimental grou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Group 1 was ask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fast were the cars going when they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i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each other?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Group 2 was ask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fast were the cars going when the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mashed into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each other?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roup 3 was aske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 ques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bout the spe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f the ca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Eye Witness Testimo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99680" y="3212640"/>
            <a:ext cx="8134200" cy="3272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5516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050920" y="321300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ne week la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articipants returned and were asked more questions including the </a:t>
            </a: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ritical ques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   “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 you see any broken glass?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31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The fin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ich group saw more broken glas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3141720"/>
          <a:ext cx="5168880" cy="284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141720"/>
                    <a:ext cx="516888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- Experiment 2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was the DV in the second experim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conclusion can you draw from the findings?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 this research in any way unethica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d this research hav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cological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valid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 this a repeated measures design </a:t>
            </a:r>
            <a:br>
              <a:rPr sz="2800"/>
            </a:b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independent measures desig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Loftus &amp; Palmer 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ad th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your general text, read up on what psychologists say about human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ording to Loftus &amp; Palmer (in the 2</a:t>
            </a:r>
            <a:r>
              <a:rPr b="0" lang="en-GB" sz="28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xperiment) how did the leading question ‘change’ the memory 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ye Witness testimony</a:t>
            </a: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you think that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unsupported eye witness testimon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should be sufficient evidence upon which to convict someon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Eye Witness Testimo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tudy of human memory is a research area i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ognitive psychology</a:t>
            </a:r>
            <a:br>
              <a:rPr sz="2800"/>
            </a:b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ye witness testimony involves memory!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How reliable is your </a:t>
            </a:r>
            <a:r>
              <a:rPr b="1" lang="en-US" sz="3200" spc="-1" strike="noStrike" u="sng">
                <a:solidFill>
                  <a:srgbClr val="e89d00"/>
                </a:solidFill>
                <a:uFillTx/>
                <a:latin typeface="Arial"/>
              </a:rPr>
              <a:t>memory</a:t>
            </a: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memory activitie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ye witness testimon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izabeth Loftus &amp; John Palmer tested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liabilit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eye witness testimon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n the memory of an event be changed by the way witnesses are questioned?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effect of leading ques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lass discuss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a leading question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o we agree th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ory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like a camera - we always reconstruct our memo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title of their paper was: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reconstruction of an automobile destr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ir research involved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tw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xperi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3810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Experiment 1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participan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45 stud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procedu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Students watched film clips of car accid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fter watching the films the students were asked to do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w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hing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oftus &amp; Palmer Experiment 1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n account of what they had se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swer questions about what they had se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ne question was th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ritical ques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0:51:24Z</dcterms:modified>
  <cp:revision>5</cp:revision>
  <dc:subject/>
  <dc:title>Slide 1</dc:title>
</cp:coreProperties>
</file>